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94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50600"/>
            <a:ext cx="4997520" cy="37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944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F7D9-9145-456E-8746-BB3DA440B3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3480" y="750960"/>
            <a:ext cx="4997520" cy="3747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618F-BD34-43AE-BD6E-DF514CD43F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A7D-8F4D-48C2-A1FB-E85E9BB7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D83-8C00-4D66-B5D3-C4A05200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28A-8BE1-4AE8-9A9C-9F4635BD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C67-F446-498E-A94D-186E7477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D3E-A8FA-4108-AD65-BF428DE2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824-12B7-48A8-BE4A-18AF1C62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62B-4EF1-4375-8940-2CEA902D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915-148E-4DF7-9041-F9C62A74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88C-2BBB-4920-BF30-17A43990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882-ABFE-48CF-8B4A-F570A9B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76E-6CC9-4E99-9CE3-4A1E501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5EC-59D9-44F2-9FD6-434CFFEA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3DF0-1EBE-4FBE-BC81-2E49F9C5B5B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sdec.org.uk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393336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Calibri"/>
              </a:rPr>
              <a:t>Jun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im McCau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articipation and learner voice</a:t>
            </a:r>
            <a:br>
              <a:rPr sz="4300"/>
            </a:br>
            <a:br>
              <a:rPr sz="43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t Andrew’s and St Bride’s</a:t>
            </a:r>
            <a:r>
              <a:rPr b="0" i="1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800"/>
            </a:b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 plus strapline.jpg"/>
          <p:cNvPicPr/>
          <p:nvPr/>
        </p:nvPicPr>
        <p:blipFill>
          <a:blip r:embed="rId1"/>
          <a:stretch/>
        </p:blipFill>
        <p:spPr>
          <a:xfrm>
            <a:off x="2698920" y="5372280"/>
            <a:ext cx="37447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2422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For more suppor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7597800" cy="474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258920" y="1844640"/>
            <a:ext cx="754236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2943000"/>
            <a:ext cx="820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kim.wosdec@btconnec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759B Argyle Street, Glasgow G3 8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0141 243 2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sdec.org.uk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@wosdec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logo plus strapline.jpg"/>
          <p:cNvPicPr/>
          <p:nvPr/>
        </p:nvPicPr>
        <p:blipFill>
          <a:blip r:embed="rId2"/>
          <a:stretch/>
        </p:blipFill>
        <p:spPr>
          <a:xfrm>
            <a:off x="1214280" y="485640"/>
            <a:ext cx="67154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25200" y="76464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70c0"/>
                </a:solidFill>
                <a:latin typeface="Calibri"/>
              </a:rPr>
              <a:t>Take aways from last time.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50920" y="2060280"/>
            <a:ext cx="86407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based learning is a key element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focused topics already exist in some subjects – potential for wider sp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Positive relationships based on respect – staff/staff, staff/student, student/student - are at the core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4920" y="1052280"/>
            <a:ext cx="641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o’s got the power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1"/>
          <p:cNvGrpSpPr/>
          <p:nvPr/>
        </p:nvGrpSpPr>
        <p:grpSpPr>
          <a:xfrm>
            <a:off x="1979640" y="2349360"/>
            <a:ext cx="4753080" cy="4175280"/>
            <a:chOff x="1979640" y="2349360"/>
            <a:chExt cx="4753080" cy="4175280"/>
          </a:xfrm>
        </p:grpSpPr>
        <p:grpSp>
          <p:nvGrpSpPr>
            <p:cNvPr id="56" name="Rounded Rectangle 3"/>
            <p:cNvGrpSpPr/>
            <p:nvPr/>
          </p:nvGrpSpPr>
          <p:grpSpPr>
            <a:xfrm>
              <a:off x="3532320" y="2349360"/>
              <a:ext cx="1617840" cy="889560"/>
              <a:chOff x="3532320" y="2349360"/>
              <a:chExt cx="1617840" cy="889560"/>
            </a:xfrm>
          </p:grpSpPr>
          <p:pic>
            <p:nvPicPr>
              <p:cNvPr id="57" name="Rounded 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2320" y="2349360"/>
                <a:ext cx="161784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3636360" y="2428200"/>
                <a:ext cx="140940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Most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ounded Rectangle 7"/>
            <p:cNvGrpSpPr/>
            <p:nvPr/>
          </p:nvGrpSpPr>
          <p:grpSpPr>
            <a:xfrm>
              <a:off x="3514320" y="5706360"/>
              <a:ext cx="1743120" cy="818280"/>
              <a:chOff x="3514320" y="5706360"/>
              <a:chExt cx="1743120" cy="818280"/>
            </a:xfrm>
          </p:grpSpPr>
          <p:pic>
            <p:nvPicPr>
              <p:cNvPr id="60" name="Rounded 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4320" y="5706360"/>
                <a:ext cx="17431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3619440" y="5777280"/>
                <a:ext cx="153324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Least 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Rounded Rectangle 11"/>
            <p:cNvGrpSpPr/>
            <p:nvPr/>
          </p:nvGrpSpPr>
          <p:grpSpPr>
            <a:xfrm>
              <a:off x="2854080" y="4858200"/>
              <a:ext cx="1528920" cy="818280"/>
              <a:chOff x="2854080" y="4858200"/>
              <a:chExt cx="1528920" cy="818280"/>
            </a:xfrm>
          </p:grpSpPr>
          <p:pic>
            <p:nvPicPr>
              <p:cNvPr id="63" name="Rounded 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4080" y="4858200"/>
                <a:ext cx="15289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2957400" y="4930920"/>
                <a:ext cx="13204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Rounded Rectangle 12"/>
            <p:cNvGrpSpPr/>
            <p:nvPr/>
          </p:nvGrpSpPr>
          <p:grpSpPr>
            <a:xfrm>
              <a:off x="4406760" y="4858200"/>
              <a:ext cx="1522800" cy="818280"/>
              <a:chOff x="4406760" y="4858200"/>
              <a:chExt cx="1522800" cy="818280"/>
            </a:xfrm>
          </p:grpSpPr>
          <p:pic>
            <p:nvPicPr>
              <p:cNvPr id="66" name="Rounded Rectangl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6760" y="485820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509360" y="493092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Rounded Rectangle 13"/>
            <p:cNvGrpSpPr/>
            <p:nvPr/>
          </p:nvGrpSpPr>
          <p:grpSpPr>
            <a:xfrm>
              <a:off x="2782440" y="3262680"/>
              <a:ext cx="1522800" cy="812520"/>
              <a:chOff x="2782440" y="3262680"/>
              <a:chExt cx="1522800" cy="812520"/>
            </a:xfrm>
          </p:grpSpPr>
          <p:pic>
            <p:nvPicPr>
              <p:cNvPr id="69" name="Rounded Rectangl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244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288324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Rounded Rectangle 14"/>
            <p:cNvGrpSpPr/>
            <p:nvPr/>
          </p:nvGrpSpPr>
          <p:grpSpPr>
            <a:xfrm>
              <a:off x="4388760" y="3262680"/>
              <a:ext cx="1522800" cy="812520"/>
              <a:chOff x="4388760" y="3262680"/>
              <a:chExt cx="1522800" cy="812520"/>
            </a:xfrm>
          </p:grpSpPr>
          <p:pic>
            <p:nvPicPr>
              <p:cNvPr id="72" name="Rounded 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876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448992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Rounded Rectangle 15"/>
            <p:cNvGrpSpPr/>
            <p:nvPr/>
          </p:nvGrpSpPr>
          <p:grpSpPr>
            <a:xfrm>
              <a:off x="1979640" y="4092840"/>
              <a:ext cx="1522800" cy="818280"/>
              <a:chOff x="1979640" y="4092840"/>
              <a:chExt cx="1522800" cy="818280"/>
            </a:xfrm>
          </p:grpSpPr>
          <p:pic>
            <p:nvPicPr>
              <p:cNvPr id="75" name="Rounded Rectangl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964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208008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Rounded Rectangle 16"/>
            <p:cNvGrpSpPr/>
            <p:nvPr/>
          </p:nvGrpSpPr>
          <p:grpSpPr>
            <a:xfrm>
              <a:off x="3603600" y="4092840"/>
              <a:ext cx="1522800" cy="818280"/>
              <a:chOff x="3603600" y="4092840"/>
              <a:chExt cx="1522800" cy="818280"/>
            </a:xfrm>
          </p:grpSpPr>
          <p:pic>
            <p:nvPicPr>
              <p:cNvPr id="78" name="Rounded Rectangl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360360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70584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Rounded Rectangle 19"/>
            <p:cNvGrpSpPr/>
            <p:nvPr/>
          </p:nvGrpSpPr>
          <p:grpSpPr>
            <a:xfrm>
              <a:off x="5209920" y="4098960"/>
              <a:ext cx="1522800" cy="818280"/>
              <a:chOff x="5209920" y="4098960"/>
              <a:chExt cx="1522800" cy="818280"/>
            </a:xfrm>
          </p:grpSpPr>
          <p:pic>
            <p:nvPicPr>
              <p:cNvPr id="81" name="Rounded 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5209920" y="409896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5312880" y="417060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7"/>
          <p:cNvSpPr/>
          <p:nvPr/>
        </p:nvSpPr>
        <p:spPr>
          <a:xfrm>
            <a:off x="5829120" y="17193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logo plus strapline.jpg"/>
          <p:cNvPicPr/>
          <p:nvPr/>
        </p:nvPicPr>
        <p:blipFill>
          <a:blip r:embed="rId10"/>
          <a:stretch/>
        </p:blipFill>
        <p:spPr>
          <a:xfrm>
            <a:off x="108000" y="115920"/>
            <a:ext cx="3240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2725560" y="414360"/>
            <a:ext cx="64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84120" y="1336680"/>
            <a:ext cx="8364600" cy="5227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cc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Diagram 7" descr=""/>
          <p:cNvPicPr/>
          <p:nvPr/>
        </p:nvPicPr>
        <p:blipFill>
          <a:blip r:embed="rId2"/>
          <a:stretch/>
        </p:blipFill>
        <p:spPr>
          <a:xfrm>
            <a:off x="542880" y="262080"/>
            <a:ext cx="827712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41200" y="1268280"/>
            <a:ext cx="8867880" cy="59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GIOS challenge questions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Does the school promote an ethos and culture of positive engagement and participation with its pupils and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effectively do we monitor particip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do we ensure there is an ethos and culture of inclusion, participation and positive relationships across the whole learning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ent Placeholder 3" descr="wordcloud_tcm4-853700.jpg"/>
          <p:cNvPicPr/>
          <p:nvPr/>
        </p:nvPicPr>
        <p:blipFill>
          <a:blip r:embed="rId2"/>
          <a:stretch/>
        </p:blipFill>
        <p:spPr>
          <a:xfrm>
            <a:off x="114480" y="333360"/>
            <a:ext cx="8915400" cy="619128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>
            <a:off x="3276720" y="5950080"/>
            <a:ext cx="3456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5364000" y="4941720"/>
            <a:ext cx="201636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5292720" y="4508640"/>
            <a:ext cx="3095640" cy="433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4356000" y="4005360"/>
            <a:ext cx="1224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547640" y="4149720"/>
            <a:ext cx="2664000" cy="3589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4356000" y="1844640"/>
            <a:ext cx="2529000" cy="64764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3132000" y="836640"/>
            <a:ext cx="2735280" cy="5047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108000" y="765000"/>
            <a:ext cx="194292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4572000" y="5445000"/>
            <a:ext cx="3456000" cy="505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0:28Z</dcterms:created>
  <dc:creator>Lynn Baxendale</dc:creator>
  <dc:description/>
  <dc:language>en-US</dc:language>
  <cp:lastModifiedBy>Suz</cp:lastModifiedBy>
  <dcterms:modified xsi:type="dcterms:W3CDTF">2018-06-13T17:05:55Z</dcterms:modified>
  <cp:revision>585</cp:revision>
  <dc:subject/>
  <dc:title>Education for Global Citizenship What’s it all about?</dc:title>
</cp:coreProperties>
</file>