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944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3480" y="750600"/>
            <a:ext cx="4997520" cy="37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944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C69A-B6E8-4495-BB39-DBD7DFE381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3480" y="750960"/>
            <a:ext cx="4997520" cy="3747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BCC0-503D-460E-8C49-A45F91C6E8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9FE-6886-469B-91B5-3854A374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26C-239D-4A43-852C-BF53B779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42A-F8B5-4403-B33B-FB531588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77F-6E8B-423D-8195-CB16D4DD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F9F-16F7-4134-A75C-842A3A40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E4D-A1DA-4A2C-9BDD-9E4597B6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8B8-F486-4B5C-BF06-C82ABD71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7C6-5A0D-4AD1-B3A1-47F9BA5D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270-72FA-47D8-981B-2D87145C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229-8ED8-4F24-BD9B-210017A1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4B0-9D77-45CB-98AA-3A74833D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DAA-D551-442C-8859-26F0B725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7303-9D0A-48CE-9641-184881879FD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sdec.org.uk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4920" y="393336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70c0"/>
                </a:solidFill>
                <a:latin typeface="Calibri"/>
              </a:rPr>
              <a:t>June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Kim McCau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424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articipation and learner voice</a:t>
            </a:r>
            <a:br>
              <a:rPr sz="4300"/>
            </a:br>
            <a:br>
              <a:rPr sz="43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t Andrew’s and St Bride’s</a:t>
            </a:r>
            <a:r>
              <a:rPr b="0" i="1" lang="en-GB" sz="36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800"/>
            </a:b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logo plus strapline.jpg"/>
          <p:cNvPicPr/>
          <p:nvPr/>
        </p:nvPicPr>
        <p:blipFill>
          <a:blip r:embed="rId1"/>
          <a:stretch/>
        </p:blipFill>
        <p:spPr>
          <a:xfrm>
            <a:off x="2698920" y="5372280"/>
            <a:ext cx="374472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2422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For more support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7597800" cy="4748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1258920" y="1844640"/>
            <a:ext cx="754236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8360" y="2943000"/>
            <a:ext cx="820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kim.wosdec@btconnec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Calibri"/>
              </a:rPr>
              <a:t>759B Argyle Street, Glasgow G3 8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Calibri"/>
              </a:rPr>
              <a:t>0141 243 2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wosdec.org.uk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@wosdec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logo plus strapline.jpg"/>
          <p:cNvPicPr/>
          <p:nvPr/>
        </p:nvPicPr>
        <p:blipFill>
          <a:blip r:embed="rId2"/>
          <a:stretch/>
        </p:blipFill>
        <p:spPr>
          <a:xfrm>
            <a:off x="1214280" y="485640"/>
            <a:ext cx="671544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25200" y="76464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70c0"/>
                </a:solidFill>
                <a:latin typeface="Calibri"/>
              </a:rPr>
              <a:t>Take aways from last time..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50920" y="2060280"/>
            <a:ext cx="86407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Rights based learning is a key element of building particip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Rights focused topics already exist in some subjects – potential for wider spre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Positive relationships based on respect – staff/staff, staff/student, student/student - are at the core of building particip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4920" y="1052280"/>
            <a:ext cx="641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Who’s got the power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oup 21"/>
          <p:cNvGrpSpPr/>
          <p:nvPr/>
        </p:nvGrpSpPr>
        <p:grpSpPr>
          <a:xfrm>
            <a:off x="1979640" y="2349360"/>
            <a:ext cx="4753080" cy="4175280"/>
            <a:chOff x="1979640" y="2349360"/>
            <a:chExt cx="4753080" cy="4175280"/>
          </a:xfrm>
        </p:grpSpPr>
        <p:grpSp>
          <p:nvGrpSpPr>
            <p:cNvPr id="56" name="Rounded Rectangle 3"/>
            <p:cNvGrpSpPr/>
            <p:nvPr/>
          </p:nvGrpSpPr>
          <p:grpSpPr>
            <a:xfrm>
              <a:off x="3532320" y="2349360"/>
              <a:ext cx="1617840" cy="889560"/>
              <a:chOff x="3532320" y="2349360"/>
              <a:chExt cx="1617840" cy="889560"/>
            </a:xfrm>
          </p:grpSpPr>
          <p:pic>
            <p:nvPicPr>
              <p:cNvPr id="57" name="Rounded 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532320" y="2349360"/>
                <a:ext cx="1617840" cy="88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3636360" y="2428200"/>
                <a:ext cx="1409400" cy="68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alibri"/>
                  </a:rPr>
                  <a:t>Most influent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Rounded Rectangle 7"/>
            <p:cNvGrpSpPr/>
            <p:nvPr/>
          </p:nvGrpSpPr>
          <p:grpSpPr>
            <a:xfrm>
              <a:off x="3514320" y="5706360"/>
              <a:ext cx="1743120" cy="818280"/>
              <a:chOff x="3514320" y="5706360"/>
              <a:chExt cx="1743120" cy="818280"/>
            </a:xfrm>
          </p:grpSpPr>
          <p:pic>
            <p:nvPicPr>
              <p:cNvPr id="60" name="Rounded 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514320" y="5706360"/>
                <a:ext cx="174312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3619440" y="5777280"/>
                <a:ext cx="1533240" cy="62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alibri"/>
                  </a:rPr>
                  <a:t>Least  influent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Rounded Rectangle 11"/>
            <p:cNvGrpSpPr/>
            <p:nvPr/>
          </p:nvGrpSpPr>
          <p:grpSpPr>
            <a:xfrm>
              <a:off x="2854080" y="4858200"/>
              <a:ext cx="1528920" cy="818280"/>
              <a:chOff x="2854080" y="4858200"/>
              <a:chExt cx="1528920" cy="818280"/>
            </a:xfrm>
          </p:grpSpPr>
          <p:pic>
            <p:nvPicPr>
              <p:cNvPr id="63" name="Rounded Rectangl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854080" y="4858200"/>
                <a:ext cx="152892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2957400" y="4930920"/>
                <a:ext cx="132048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Rounded Rectangle 12"/>
            <p:cNvGrpSpPr/>
            <p:nvPr/>
          </p:nvGrpSpPr>
          <p:grpSpPr>
            <a:xfrm>
              <a:off x="4406760" y="4858200"/>
              <a:ext cx="1522800" cy="818280"/>
              <a:chOff x="4406760" y="4858200"/>
              <a:chExt cx="1522800" cy="818280"/>
            </a:xfrm>
          </p:grpSpPr>
          <p:pic>
            <p:nvPicPr>
              <p:cNvPr id="66" name="Rounded Rectangl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406760" y="485820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4509360" y="493092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Rounded Rectangle 13"/>
            <p:cNvGrpSpPr/>
            <p:nvPr/>
          </p:nvGrpSpPr>
          <p:grpSpPr>
            <a:xfrm>
              <a:off x="2782440" y="3262680"/>
              <a:ext cx="1522800" cy="812520"/>
              <a:chOff x="2782440" y="3262680"/>
              <a:chExt cx="1522800" cy="812520"/>
            </a:xfrm>
          </p:grpSpPr>
          <p:pic>
            <p:nvPicPr>
              <p:cNvPr id="69" name="Rounded Rectangl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2440" y="3262680"/>
                <a:ext cx="1522800" cy="81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2883240" y="3333240"/>
                <a:ext cx="13201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Rounded Rectangle 14"/>
            <p:cNvGrpSpPr/>
            <p:nvPr/>
          </p:nvGrpSpPr>
          <p:grpSpPr>
            <a:xfrm>
              <a:off x="4388760" y="3262680"/>
              <a:ext cx="1522800" cy="812520"/>
              <a:chOff x="4388760" y="3262680"/>
              <a:chExt cx="1522800" cy="812520"/>
            </a:xfrm>
          </p:grpSpPr>
          <p:pic>
            <p:nvPicPr>
              <p:cNvPr id="72" name="Rounded 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4388760" y="3262680"/>
                <a:ext cx="1522800" cy="81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4489920" y="3333240"/>
                <a:ext cx="13201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Rounded Rectangle 15"/>
            <p:cNvGrpSpPr/>
            <p:nvPr/>
          </p:nvGrpSpPr>
          <p:grpSpPr>
            <a:xfrm>
              <a:off x="1979640" y="4092840"/>
              <a:ext cx="1522800" cy="818280"/>
              <a:chOff x="1979640" y="4092840"/>
              <a:chExt cx="1522800" cy="818280"/>
            </a:xfrm>
          </p:grpSpPr>
          <p:pic>
            <p:nvPicPr>
              <p:cNvPr id="75" name="Rounded Rectangle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9640" y="409284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2080080" y="416448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Rounded Rectangle 16"/>
            <p:cNvGrpSpPr/>
            <p:nvPr/>
          </p:nvGrpSpPr>
          <p:grpSpPr>
            <a:xfrm>
              <a:off x="3603600" y="4092840"/>
              <a:ext cx="1522800" cy="818280"/>
              <a:chOff x="3603600" y="4092840"/>
              <a:chExt cx="1522800" cy="818280"/>
            </a:xfrm>
          </p:grpSpPr>
          <p:pic>
            <p:nvPicPr>
              <p:cNvPr id="78" name="Rounded Rectangle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3603600" y="409284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705840" y="416448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Rounded Rectangle 19"/>
            <p:cNvGrpSpPr/>
            <p:nvPr/>
          </p:nvGrpSpPr>
          <p:grpSpPr>
            <a:xfrm>
              <a:off x="5209920" y="4098960"/>
              <a:ext cx="1522800" cy="818280"/>
              <a:chOff x="5209920" y="4098960"/>
              <a:chExt cx="1522800" cy="818280"/>
            </a:xfrm>
          </p:grpSpPr>
          <p:pic>
            <p:nvPicPr>
              <p:cNvPr id="81" name="Rounded 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5209920" y="409896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5312880" y="417060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17"/>
          <p:cNvSpPr/>
          <p:nvPr/>
        </p:nvSpPr>
        <p:spPr>
          <a:xfrm>
            <a:off x="5829120" y="171936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os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logo plus strapline.jpg"/>
          <p:cNvPicPr/>
          <p:nvPr/>
        </p:nvPicPr>
        <p:blipFill>
          <a:blip r:embed="rId10"/>
          <a:stretch/>
        </p:blipFill>
        <p:spPr>
          <a:xfrm>
            <a:off x="108000" y="115920"/>
            <a:ext cx="3240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50560" y="2060280"/>
            <a:ext cx="40338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Formal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Extended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Decision making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Other places of informal contact among peers and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4572000" y="2060640"/>
            <a:ext cx="403236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Learning, teaching and assess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Opportunities for personal achiev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Decision making grou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In connection with the wider co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2725560" y="414360"/>
            <a:ext cx="64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70c0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84120" y="1336680"/>
            <a:ext cx="8364600" cy="5227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17920" y="34092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70c0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17920" y="34092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66cc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560" y="2060280"/>
            <a:ext cx="40338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Formal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Extended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Decision making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Other places of informal contact among peers and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tent Placeholder 2"/>
          <p:cNvSpPr/>
          <p:nvPr/>
        </p:nvSpPr>
        <p:spPr>
          <a:xfrm>
            <a:off x="4572000" y="2060640"/>
            <a:ext cx="403236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Learning, teaching and assess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Opportunities for personal achiev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Decision making grou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In connection with the wider co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Diagram 7" descr=""/>
          <p:cNvPicPr/>
          <p:nvPr/>
        </p:nvPicPr>
        <p:blipFill>
          <a:blip r:embed="rId2"/>
          <a:stretch/>
        </p:blipFill>
        <p:spPr>
          <a:xfrm>
            <a:off x="542880" y="262080"/>
            <a:ext cx="827712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41200" y="1268280"/>
            <a:ext cx="8867880" cy="59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GIOS challenge questions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Does the school promote an ethos and culture of positive engagement and participation with its pupils and par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ow effectively do we monitor particip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ow do we ensure there is an ethos and culture of inclusion, participation and positive relationships across the whole learning comm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Content Placeholder 3" descr="wordcloud_tcm4-853700.jpg"/>
          <p:cNvPicPr/>
          <p:nvPr/>
        </p:nvPicPr>
        <p:blipFill>
          <a:blip r:embed="rId2"/>
          <a:stretch/>
        </p:blipFill>
        <p:spPr>
          <a:xfrm>
            <a:off x="114480" y="333360"/>
            <a:ext cx="8915400" cy="6191280"/>
          </a:xfrm>
          <a:prstGeom prst="rect">
            <a:avLst/>
          </a:prstGeom>
          <a:ln w="0">
            <a:noFill/>
          </a:ln>
        </p:spPr>
      </p:pic>
      <p:sp>
        <p:nvSpPr>
          <p:cNvPr id="104" name="Oval 5"/>
          <p:cNvSpPr/>
          <p:nvPr/>
        </p:nvSpPr>
        <p:spPr>
          <a:xfrm>
            <a:off x="3276720" y="5950080"/>
            <a:ext cx="345600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5364000" y="4941720"/>
            <a:ext cx="201636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5292720" y="4508640"/>
            <a:ext cx="3095640" cy="4330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4356000" y="4005360"/>
            <a:ext cx="122400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1547640" y="4149720"/>
            <a:ext cx="2664000" cy="35892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0"/>
          <p:cNvSpPr/>
          <p:nvPr/>
        </p:nvSpPr>
        <p:spPr>
          <a:xfrm>
            <a:off x="4356000" y="1844640"/>
            <a:ext cx="2529000" cy="64764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3132000" y="836640"/>
            <a:ext cx="2735280" cy="50472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108000" y="765000"/>
            <a:ext cx="194292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4572000" y="5445000"/>
            <a:ext cx="3456000" cy="5050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50:28Z</dcterms:created>
  <dc:creator>Lynn Baxendale</dc:creator>
  <dc:description/>
  <dc:language>en-US</dc:language>
  <cp:lastModifiedBy>Suz</cp:lastModifiedBy>
  <dcterms:modified xsi:type="dcterms:W3CDTF">2018-06-13T17:05:55Z</dcterms:modified>
  <cp:revision>585</cp:revision>
  <dc:subject/>
  <dc:title>Education for Global Citizenship What’s it all about?</dc:title>
</cp:coreProperties>
</file>