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dt" idx="38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2856-F866-41B0-A5C0-F5119E97817D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ftr" idx="39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 type="sldNum" idx="40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5FA3-37E1-44C5-94E1-4E8328185C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2F5F-1DFD-4CE5-A3ED-C65156FD38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46F2-F09D-420D-9592-B38DC3BE1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0 per cent of university entrants coming from the most disadvantaged 20 per cent of socie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D1D8-DD66-4AD5-AAFB-99748237CF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rly years not an inoculation and sustained support needed at all s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1C67-54F5-402F-BDCB-D45E3D6D44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outine attendance at school PTA meeting etc don’t appear to make a difference and stratified by SES anyway. i.e., parents from poorer background don’t get involved in tha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C4EE-30A4-4003-8E60-46EA99E53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1286-FE6C-4E75-9B28-31DBD3AE5D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ability children from most deprived families perform worse than average ability from least deprived by KS4 despite large differences at pri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ability children from least deprived catch average ability most deprived children by KS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S1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maths, reading and science levels. Standardised and take percen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S2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maths and English fine grade levels. Standardise and take percentiles of distrib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S4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s score. Standardise and take percentiles of distrib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A8DE-BAFD-4C91-84C8-E4294D4CE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9379-0EBD-47AA-9D9F-01295E868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portant to keep these statistics in mind when thinking about who is 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8715-71B7-4E25-9633-6891DA22D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rect relationship between deprivation, tariff and future destination such as access to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average 2012 tariff for the most deprived is good to take them to FE but significantly lower than the average entry to H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6.7% of leavers from the 2012-13 school leaver cohort from deprivation deciles 1 and 2 achieved an average tariff of 664 or above – the average score of those going on to HE study – who are these, rich leaving in poorer areas or children from poorer backgrounds doing well? – what can we learn from th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us, if we want to widen access to HE, employment or volunteering, we will need to attend to the attainment of children from low income househo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have made good strides but need to aim for perfection by asking other Key questions such as what are people doing when they get to these destinations – how positive are positive destin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17CB-AD77-4290-8870-B180997058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A06101-9D34-419E-B848-9AB0171C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A80712-9075-46B9-9D4C-11E4392D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02A88F-CF18-4904-8530-692D700C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68616E-E053-4A1F-BEE9-92A9FE8F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D325C4-6223-452E-9ECF-E5E89AF5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A41DDD-CA02-497C-B87C-7A670BB2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072511-BF99-4300-992A-958E8249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B95D21-D7D0-4320-A9A9-39FD55BE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922A89-5882-4C48-A581-991A1261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F09DA1-21AD-4692-907D-1482EA7B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242348-5525-49F7-A870-E6E2556E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56A901-8BEF-4071-BCF2-3FA1DED9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CC870E-6DDA-4169-ADEF-B4D9C775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CCE666-9374-4383-B51B-7686E144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59F38E-3FA6-45FF-B579-96EE638B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C9FC89-3BD6-4926-B286-B639C1B1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308418-3825-4F62-B81D-8E1D1CC2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E8AC12-1163-4B2B-A98C-FC14B04F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2B9CAD-E431-4A5B-99E7-2E3BC712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5A6B49-4339-4E15-8A19-2250AAC9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88C564-4756-4C9C-84D4-4284ADA7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60398-9D6A-43C4-B8B1-15DC1697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E0A62B-D8A9-405D-8561-B7B602E9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1558C-3704-478E-95C0-9DF828A3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F30913-1601-4CD3-B810-D0E74AE0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914A3E-7457-4CBA-BE06-E4D80275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9867CB-6374-4716-A22E-03C8E6F3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1F123A-A96D-4594-9CA5-9FC9E16C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1B545C-14DF-4D3C-827E-2FF79531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A62C22-5A96-4F31-BF0B-D64CC9D7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54BD-9275-4B20-A7D7-2BD9D700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662AF-1149-4484-A7EB-21C3E857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996A7-F18B-42BA-8328-D3ECE2C9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AADE7-9BDE-45C3-AF41-E4D30C03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4AA2EC-B48C-4C53-A6A4-02F241B2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AF96E-CC3B-40BA-8F85-9288036C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12D6A-AF28-4B57-B841-B74C82B0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CBA054-0437-4AA0-A444-E29068CD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FCFA4A-6CD3-47DD-B30A-56D628FB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84881E-57CC-4BC5-856F-456FEA33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55272-2FA4-4F86-AC42-69001DB8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DF3-17EC-48E1-B8A8-3248E5FC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317A08-F7DC-449C-A4BB-EAF5C9B6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2DA511-E7FE-4548-8AB0-E8C9B8B7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19FD8-B76A-4917-B391-15DC5186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52B3E-DFF3-4C23-BB2B-C3ADF444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5C913-4D5C-4BEF-89E8-DE96779E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522F0A-1066-49DF-9FD3-45B9E711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D1A880-F611-4D7D-AB6B-83751DC4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6A1B60-4B47-4320-A918-65F6EBF4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48210F-9CDF-4B09-AE11-04DDE374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6471DF-D93E-4C03-A0B6-99B4C53F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C522-D41B-4DA9-8152-AE24BD9D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ACC067-8BDB-4377-9CEC-1AFA62EA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3630D0-E994-4C77-8CBD-FC79C9F3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59D15D-BE82-4AD7-A5F9-169B81B4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41DD20-361F-4635-9506-76A9DB93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DC676C-CAA1-42F0-95BE-91468C28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208CF5-914E-468A-814B-52E176D0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294F21-8870-4F9D-BCFE-A928859E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867010-2699-4B14-A07C-B8C65892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99A9F-6377-4DBC-8F0E-BB165759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1DF84A-FA24-4759-9E2E-603D29A5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A6E-0B96-4EA3-8F98-34B62608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C9307-E01F-41ED-AC3D-48B3C7E7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654742-E816-4876-98DF-2168AD63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1F1917-8B32-477A-A995-365DD5F9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83BFA-1D87-4E93-B01B-A5263DCF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4E2D0-7604-4214-9239-D21E67CC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B38494-FE23-4F6D-9CDD-ECEB6D5C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5164D1-4BDF-4E5C-B0CE-E7FE516A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97B7D-AEB6-4092-956E-B1A73C59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0A8BD-ACB0-4C3A-B4F4-6DED74E7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BC260F-61AB-4D53-AC51-8475F423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8F0B-7201-4838-A625-141A7A3C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F08A5C-C286-4E6A-9818-8061952A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7277E7-E3BF-4707-92F4-58C22AA3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7A955B-E281-4644-A18B-BD44AF2E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E2BC2F-54AE-4D53-9ADA-362F5574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C90571-C2E2-416E-A314-7F0FEFC4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373742-5B01-4F6C-ABEC-FA9D6C1A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7B0C34-1B27-4C38-9848-F5E9D67B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B82A4CA-AEB8-4853-8419-2A530968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9F433B-31B5-4667-A360-385E42B1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689C04D-178F-4B46-ADEC-DC6D1076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ABF-81AC-4D33-82C6-CE39CC36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54FFBE-73D8-416A-9627-3DDCA3C0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118-D808-420F-B1A6-0A737EA0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939C-A9B3-4EAA-8909-7FCB1928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898A-8C80-46A1-A9E8-7B314066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CA6-81F8-44B3-BBC0-3A127A57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15B-5668-4881-9955-57974B62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9E3-CA13-4DC0-BA67-8462DA68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868EC-B448-4468-9906-E66B52C7E8A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6E25F-60FB-4EAD-BC56-D479449DD1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430EA-1276-4DA5-9EB3-986BE26CE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808D7-3EB7-4B27-9160-0A3FF15DA9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B2F7E-767B-4BB0-94B0-99C0DB1522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CDB73-D59E-4290-AAF3-FF5FBC7031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45DAA-5ADC-4AC2-936F-163C539845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AD601-0316-472B-975B-4AAA09BE3F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A1B68-F971-48BE-A9C6-DFB924298F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6E518-41C1-4ACD-BB34-995BE8D0DB5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C30F4-FB8F-4262-BAF3-8C71788974F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E3F20-F113-469A-9EDF-0432D6876B2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25D2D8-6A42-4AB9-A043-F371BA73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218CCB-2D8A-417E-91A8-940BCB2C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B3A8F7-9A14-4A83-A1CF-66A88A96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98CA61-7587-4A20-B176-964A0C1D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B8AA15-DE4D-4A3F-B821-4CB16856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A7C883-109D-4DB5-8B0B-3719CB8D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6CEBD3-26A5-4357-9536-F345192E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FC4F0B-E7F1-4720-BD2A-51B1B1AF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1F42FE-76CE-46C2-8C0F-EEF9505F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4D070C-F0E8-46C9-A8DD-C567809F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3560CC-A785-4030-B813-E3BAAB5B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E3A1AD-F766-40A6-B646-4FCD5540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DF4809-D8E5-492A-B7DA-B46CB332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40D79A-F2FE-4B49-9009-39D53738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22B61F-5D40-42F3-BCE5-7665BD1D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05F674-F6E3-4979-A087-0E577D91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568F7D-1322-478C-962D-BF6F955E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FFDB91-43E0-4F27-AEC3-5023A3A1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E9FD2F-4587-4B7C-A5AB-A5ED3CCE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8F0E93-B6B4-44D8-A1CC-9FA19FA5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F5BD4-F965-4ABE-9DB4-D29CE364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04D6A4-10A3-48AD-8E40-AAEAE00A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A8F6E0-BFA5-4F51-AA8A-A2BA1544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F028AF-7ADB-43B4-BB75-32817CBA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6788FB-8424-4EFF-A4FA-3E510A36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1CB2EE-BCF8-4011-9782-10E8D9FA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A01C0A-C093-4E1B-A406-CB7ED8E8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186B35-CD35-421F-A101-FBE2586A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BA2C96-C6F1-48B9-A3AB-2ADAEA96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194B8D-9DCE-44A6-BC4E-B74F2246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84B3A0-2BFD-4909-B861-1E4783A9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449787-B5E5-4E7C-99B4-228895B7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F4E90D-FE10-4D2A-A611-4BDF4091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F3E57A-11B5-447A-AF8F-FF80E745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E6D522-B66A-4315-B091-3D2F1D4A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6A3C22-EC2C-4338-82B7-C51769F3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62E494-A22D-4646-BC95-C4CD4EBB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CF3BF5-86BA-49DF-85B4-C1E81BC8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45585B-23F0-496B-A0DC-4D17C9B5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448E51-C46E-460E-9BB4-4221D307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037383-9A21-4F08-97A3-069C95E4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24AB23-228D-48F4-A211-C467EF79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028924-8AD8-4970-935A-B8D12B98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339FF2-01F4-4214-905B-BB386969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9CD8C7-70BF-46D1-BA54-134966AC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623D8A-C5BE-4603-8620-6B11263A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865CA7-FBD1-4D3C-8D0B-8D6B8221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A72D69-0E5C-433D-85D7-28C294FD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8FE584-6A2A-4D14-9BB3-2F18025E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F2B567-E28F-4389-ADF7-610715B8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ED7414-AAA7-478C-8E75-B069F523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111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647F-11B6-441F-9640-F181E0D4FD92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4A80-6C87-459D-B9CB-F3C3E9F7A01B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6598-551B-4B0F-A921-F1906F07B7E2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9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0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1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5B5B-39BE-4A8A-8F73-8D16D784F7DE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1E7D-765A-4CEE-9F87-5C530447F28A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6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831C-A8C6-4539-898C-CF79055C23A7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A335-7BAE-4C6B-9744-4954AB024DD8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2120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552720" y="6426360"/>
            <a:ext cx="21337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11D4-BB10-4F79-9195-75FF523FF2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44B2-91CC-4A17-A615-EA8EBA28BA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9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4DBF-20F0-4C66-B48A-CD86C5F4C61C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D788-48B7-49E8-A5EF-C1904B3BBC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6C03-AD17-44ED-BA50-19DF76B1BF67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0495-87DB-4270-81C4-76D8DF1F2D8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edward.sosu@strath.ac.uk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suttontrust.com/public/documents/readinggap.pdf" TargetMode="External"/><Relationship Id="rId3" Type="http://schemas.openxmlformats.org/officeDocument/2006/relationships/hyperlink" Target="http://browse.oecdbookshop.org/oecd/pdfs/product/9107211e.pdf" TargetMode="External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7360" y="2692080"/>
            <a:ext cx="816912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osing the Poverty - Attainment Gap in Scottish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557280" y="4765320"/>
            <a:ext cx="81676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Dr Edward So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2"/>
          <p:cNvSpPr/>
          <p:nvPr/>
        </p:nvSpPr>
        <p:spPr>
          <a:xfrm>
            <a:off x="5421240" y="2330280"/>
            <a:ext cx="32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9"/>
          <p:cNvSpPr/>
          <p:nvPr/>
        </p:nvSpPr>
        <p:spPr>
          <a:xfrm>
            <a:off x="4216320" y="505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Box 1"/>
          <p:cNvSpPr/>
          <p:nvPr/>
        </p:nvSpPr>
        <p:spPr>
          <a:xfrm>
            <a:off x="2329920" y="6423120"/>
            <a:ext cx="39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dening Access to Higher Education Conference  May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3283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522000" y="1571400"/>
            <a:ext cx="809604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cro level data based on SSL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p persists and widen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narrowing of gap in P4 ‘writing’ in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ro level data suggest narrowing of gap particularly with reference to S4 tariff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ainment is a key determinant of entry to high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533160" y="1987560"/>
            <a:ext cx="8096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part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factors that might account for this gap in attai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3960" y="1204560"/>
            <a:ext cx="80964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riched vs disadvantaged hom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mily stressors associated with pover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exclusion and bul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dden cost of education – school trips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ching and learning practices – ability grou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cher preju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5313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th’ of low parental educational aspi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0" y="2093400"/>
            <a:ext cx="403848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iration guided by ‘rational decision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d to have high aspi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sue is how best to support them to turn aspirations to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Content Placeholder 6" descr=""/>
          <p:cNvPicPr/>
          <p:nvPr/>
        </p:nvPicPr>
        <p:blipFill>
          <a:blip r:embed="rId1"/>
          <a:stretch/>
        </p:blipFill>
        <p:spPr>
          <a:xfrm>
            <a:off x="3894120" y="2452680"/>
            <a:ext cx="5249880" cy="3990960"/>
          </a:xfrm>
          <a:prstGeom prst="rect">
            <a:avLst/>
          </a:prstGeom>
          <a:ln w="0">
            <a:noFill/>
          </a:ln>
        </p:spPr>
      </p:pic>
      <p:sp>
        <p:nvSpPr>
          <p:cNvPr id="688" name="TextBox 2"/>
          <p:cNvSpPr/>
          <p:nvPr/>
        </p:nvSpPr>
        <p:spPr>
          <a:xfrm>
            <a:off x="7527600" y="635940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Sosu, 20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533160" y="1987560"/>
            <a:ext cx="8096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ing the Ga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and Policy Instr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6040" y="2144880"/>
            <a:ext cx="831852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osed Education (Scotland) Bill and fu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FC’s Widening Access initiativ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dening Access Commission – ‘Vision 20/20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Years Collaborative (but not an inocul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intervention at every tier of the educ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160" y="782640"/>
            <a:ext cx="80960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Early Years:  What work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533160" y="1269720"/>
            <a:ext cx="83358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ding EY provisio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high qual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tive learning experiences; clear learning objectives; explicit focus on language, early-reading &amp; number concepts, non-verbal reaso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ll qualified sta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ldren from mixed socio-economic backgrou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PPE project found tha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isadvantaged childr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attended quality preschool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erformed better 5 years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Higgins et al., 2013; Sammons et al., 2007; Sylva et al.,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. School-wide: Parental Invol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ng parents to work with their children to improve their lear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SPOKES project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 parents to use Pause, Prompt &amp; Praise 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bined with intervention to reduce behaviou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owed increased attainment by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13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cott et al.,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160" y="882720"/>
            <a:ext cx="809604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al Involvement: What probably does not work alone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85640" y="2317680"/>
            <a:ext cx="80964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tion and parent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homework tas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al volunteering in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9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. Effective Pedagogies</a:t>
            </a:r>
            <a:br>
              <a:rPr sz="43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533160" y="1846080"/>
            <a:ext cx="8096040" cy="46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r Tu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essment and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a-cognitive and self-regul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n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0760" y="84744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verty and Education in Scot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7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ttle of the variation in student achievement in Scotland is associated with the ways in which schools differ... </a:t>
            </a: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Who you are in Scotland is far more important than what school you atte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so far as achieve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ifferences on international tests are concerned. </a:t>
            </a: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Socio-economic status is the most important difference between individu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” (OECD, 2007, p.1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. Fu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533160" y="1987560"/>
            <a:ext cx="809604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cessary but not sufficient condition for improving attai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arious models exist –Title I (USA), London &amp; City Challenge, Pupil Premium (England), ‘Scottish Model?’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  far, only London Challenge shown to make some impact on attainment and narrowed the gap (</a:t>
            </a: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some doubt on level of effect -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Greaves et al., 2014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unding – what 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596880" y="1987560"/>
            <a:ext cx="809640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ear focus on improving attai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rong emphasis on use of data to monitor impact of interven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upporting strong collaboration between sch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rong element of parental invol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chool interventions guided by strong evidence of what 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unding – what does not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533160" y="1987560"/>
            <a:ext cx="80960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duced budget and support in other are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parate provisions that result in stigmati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road goals without specific guidance to sch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hort term external support for tu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ventions that rely on anecdotal evi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consistent monitoring of impact on attai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. Knowledge Gen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atically documenting evidence within a Scottish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ace for ‘plausible’ experimentation as part of funding – removing fear of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turing process and outcome data to inform future intervention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What will help? Smarter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533520" y="1987560"/>
            <a:ext cx="81849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w, Scottish, approach t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ment &amp; attainment data, engagement, data &amp; demographic data - to directly feed curriculum and teaching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new understandings, uses, organisational systems and interrogation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-stakes testing is NO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Chart 144" descr=""/>
          <p:cNvPicPr/>
          <p:nvPr/>
        </p:nvPicPr>
        <p:blipFill>
          <a:blip r:embed="rId1"/>
          <a:stretch/>
        </p:blipFill>
        <p:spPr>
          <a:xfrm>
            <a:off x="1415880" y="1589040"/>
            <a:ext cx="6564600" cy="454356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9640" y="16812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data can help us see 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ble students are falling behind whilst rich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 abilit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gain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1"/>
          <p:cNvSpPr/>
          <p:nvPr/>
        </p:nvSpPr>
        <p:spPr>
          <a:xfrm>
            <a:off x="1343160" y="6081840"/>
            <a:ext cx="50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urtesy of Prof Anna Vignoles (University of Cambrid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9680" y="3535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ant elements for success of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533160" y="1987560"/>
            <a:ext cx="809604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idence-bas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‘basket of’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- monitoring of impact on student at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apting intervention to specific con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Beyond education – Tackling inequality i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ing Inspirational and believing in the stud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533160" y="795240"/>
            <a:ext cx="809604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 Edward S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dward.sosu@strath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dit to: Prof Sue Ellis, Dr Jim McCormick (JR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Report freely available on JRF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osing the attainment gap in Scottish education (Sosu &amp; Ellis, 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0" y="148428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Bradshaw, P. (2011) Growing Up in Scotland (2011) Changes in child cognitive ability in the pre-school years Edinburgh; Scottish Government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Gorard, S., See, B. H. and Davies. P. (2012)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The impact of attitudes and aspirations on educational attainment and participation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. York: The Joseph Rowntree Foundation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Higgins, S. et al., (2013). The Sutton Trust-Education Endowment Foundation Teaching and Learning Toolkit. London. EEF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Jerrim, J. (2013)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The Reading Gap: The socio-economic gap in children’s reading skills: A cross-national comparison using PISA 2009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. [Online]. Available from </a:t>
            </a:r>
            <a:r>
              <a:rPr b="0" lang="en-GB" sz="16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www.suttontrust.com/public/documents/readinggap.pdf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[Accessed 15th July 2013]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OECD (2007)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Quality and Equity of Schooling in Scotland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. [Online]. Available from </a:t>
            </a:r>
            <a:r>
              <a:rPr b="0" lang="en-GB" sz="1600" spc="-1" strike="noStrike" u="sng">
                <a:solidFill>
                  <a:srgbClr val="168bba"/>
                </a:solidFill>
                <a:uFillTx/>
                <a:latin typeface="Corbel"/>
                <a:hlinkClick r:id="rId3"/>
              </a:rPr>
              <a:t>http://browse.oecdbookshop.org/oecd/pdfs/product/9107211e.pdf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[Accessed 12th March 2013]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Sharples, J. et al., (2011).Effective classroom strategies for closing the gap in educational achievement for children and young people living in poverty, including white working-class boys.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Schools and Communities Research Review 4.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C4EO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Sosu, E. and Ellis, S. (2014); Closing the attainment gap in Scottish education; York: Joseph Rowntree Foundation.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Sosu, Edward (2014)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Predicting maternal aspirations for their children's education : the role of parental and child characteristics.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International Journal of Educational Research, 67. pp. 67-79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Topping, K. J., Miller, D., Murray, P., Henderson, S., Fortuna, C., &amp; Conlin, N. (2011). Outcomes in a randomised controlled trial of mathematics tutoring. Educational Research, 53(1), 51-63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Wilkinson, R. and Pickett, K. (2009) 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The Spirit Level: Why Equality is Better for Everyone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, Penguin Books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9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CE08-CD93-4986-81CD-9EB9B3478153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o ARE ‘the poor’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77480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6% of children in poverty were in working household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2011/1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p from 43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1996/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412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ocial Mobility and Child Poverty Commission,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2013 around 17% of households were ‘workles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in this 8% never worked – constitutes  1.5% of all households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cInnes et al.,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o ARE ‘the poor’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457200" y="2206800"/>
            <a:ext cx="8229600" cy="3762360"/>
          </a:xfrm>
          <a:prstGeom prst="rect">
            <a:avLst/>
          </a:prstGeom>
          <a:ln w="0">
            <a:noFill/>
          </a:ln>
        </p:spPr>
      </p:pic>
      <p:sp>
        <p:nvSpPr>
          <p:cNvPr id="653" name="TextBox 2"/>
          <p:cNvSpPr/>
          <p:nvPr/>
        </p:nvSpPr>
        <p:spPr>
          <a:xfrm>
            <a:off x="2754360" y="621180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acInnes et al., 20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o ARE ‘the poor’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1"/>
          <a:stretch/>
        </p:blipFill>
        <p:spPr>
          <a:xfrm>
            <a:off x="457200" y="2098800"/>
            <a:ext cx="8229600" cy="3978000"/>
          </a:xfrm>
          <a:prstGeom prst="rect">
            <a:avLst/>
          </a:prstGeom>
          <a:ln w="0">
            <a:noFill/>
          </a:ln>
        </p:spPr>
      </p:pic>
      <p:sp>
        <p:nvSpPr>
          <p:cNvPr id="656" name="TextBox 2"/>
          <p:cNvSpPr/>
          <p:nvPr/>
        </p:nvSpPr>
        <p:spPr>
          <a:xfrm>
            <a:off x="3329640" y="6273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acInnes et al., 20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overty-Attainment Gap: Early Years</a:t>
            </a:r>
            <a:br>
              <a:rPr sz="36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US [Bradshaw et al., 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51732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gap starts in the early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ap between children from richest and poorest background at age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eft-Right Arrow 2"/>
          <p:cNvSpPr/>
          <p:nvPr/>
        </p:nvSpPr>
        <p:spPr>
          <a:xfrm>
            <a:off x="1835280" y="3736800"/>
            <a:ext cx="4722840" cy="138780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3c8c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6-13 months in 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eft-Right Arrow 4"/>
          <p:cNvSpPr/>
          <p:nvPr/>
        </p:nvSpPr>
        <p:spPr>
          <a:xfrm>
            <a:off x="1403280" y="5246640"/>
            <a:ext cx="5977080" cy="1440000"/>
          </a:xfrm>
          <a:prstGeom prst="leftRightArrow">
            <a:avLst>
              <a:gd name="adj1" fmla="val 50000"/>
              <a:gd name="adj2" fmla="val 50001"/>
            </a:avLst>
          </a:prstGeom>
          <a:solidFill>
            <a:srgbClr val="3c8c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1-18 months in expressive 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14360" y="34884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age of pupils performing well or very well by deprivation (Numeracy SSLN,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Object 3" descr=""/>
          <p:cNvPicPr/>
          <p:nvPr/>
        </p:nvPicPr>
        <p:blipFill>
          <a:blip r:embed="rId1"/>
          <a:stretch/>
        </p:blipFill>
        <p:spPr>
          <a:xfrm>
            <a:off x="539640" y="1876320"/>
            <a:ext cx="809316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3" name="Object 4"/>
          <p:cNvGraphicFramePr/>
          <p:nvPr/>
        </p:nvGraphicFramePr>
        <p:xfrm>
          <a:off x="873000" y="1108080"/>
          <a:ext cx="7634520" cy="52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1108080"/>
                    <a:ext cx="7634520" cy="52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gap matter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ss to HE and future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Content Placeholder 3" descr=""/>
          <p:cNvPicPr/>
          <p:nvPr/>
        </p:nvPicPr>
        <p:blipFill>
          <a:blip r:embed="rId1"/>
          <a:stretch/>
        </p:blipFill>
        <p:spPr>
          <a:xfrm>
            <a:off x="3240" y="1563840"/>
            <a:ext cx="9370800" cy="5373360"/>
          </a:xfrm>
          <a:prstGeom prst="rect">
            <a:avLst/>
          </a:prstGeom>
          <a:ln w="0">
            <a:noFill/>
          </a:ln>
        </p:spPr>
      </p:pic>
      <p:sp>
        <p:nvSpPr>
          <p:cNvPr id="667" name="TextBox 2"/>
          <p:cNvSpPr/>
          <p:nvPr/>
        </p:nvSpPr>
        <p:spPr>
          <a:xfrm>
            <a:off x="1208160" y="2201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6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4"/>
          <p:cNvSpPr/>
          <p:nvPr/>
        </p:nvSpPr>
        <p:spPr>
          <a:xfrm>
            <a:off x="1932840" y="3541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643120" y="4827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7"/>
          <p:cNvSpPr/>
          <p:nvPr/>
        </p:nvSpPr>
        <p:spPr>
          <a:xfrm>
            <a:off x="3173400" y="3079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traight Connector 9"/>
          <p:cNvSpPr/>
          <p:nvPr/>
        </p:nvSpPr>
        <p:spPr>
          <a:xfrm>
            <a:off x="1679400" y="2878200"/>
            <a:ext cx="6008760" cy="0"/>
          </a:xfrm>
          <a:prstGeom prst="line">
            <a:avLst/>
          </a:prstGeom>
          <a:ln w="381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traight Connector 12"/>
          <p:cNvSpPr/>
          <p:nvPr/>
        </p:nvSpPr>
        <p:spPr>
          <a:xfrm>
            <a:off x="1679400" y="3541680"/>
            <a:ext cx="60087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Box 14"/>
          <p:cNvSpPr/>
          <p:nvPr/>
        </p:nvSpPr>
        <p:spPr>
          <a:xfrm>
            <a:off x="7827480" y="33210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D=2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Box 17"/>
          <p:cNvSpPr/>
          <p:nvPr/>
        </p:nvSpPr>
        <p:spPr>
          <a:xfrm>
            <a:off x="7846560" y="26640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D=5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15"/>
          <p:cNvSpPr/>
          <p:nvPr/>
        </p:nvSpPr>
        <p:spPr>
          <a:xfrm>
            <a:off x="4213080" y="3079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4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Box 16"/>
          <p:cNvSpPr/>
          <p:nvPr/>
        </p:nvSpPr>
        <p:spPr>
          <a:xfrm>
            <a:off x="4859280" y="5070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18"/>
          <p:cNvSpPr/>
          <p:nvPr/>
        </p:nvSpPr>
        <p:spPr>
          <a:xfrm>
            <a:off x="5673600" y="46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Box 19"/>
          <p:cNvSpPr/>
          <p:nvPr/>
        </p:nvSpPr>
        <p:spPr>
          <a:xfrm>
            <a:off x="6321600" y="4572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Box 22"/>
          <p:cNvSpPr/>
          <p:nvPr/>
        </p:nvSpPr>
        <p:spPr>
          <a:xfrm>
            <a:off x="6994440" y="4572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0:33:18Z</dcterms:created>
  <dc:creator>scott o'donnell</dc:creator>
  <dc:description/>
  <dc:language>en-US</dc:language>
  <cp:lastModifiedBy>Susan</cp:lastModifiedBy>
  <cp:lastPrinted>2015-05-14T11:04:27Z</cp:lastPrinted>
  <dcterms:modified xsi:type="dcterms:W3CDTF">2016-01-13T21:28:41Z</dcterms:modified>
  <cp:revision>206</cp:revision>
  <dc:subject/>
  <dc:title>PowerPoint Presentation</dc:title>
</cp:coreProperties>
</file>