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dt" idx="38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5E8E-D7DE-4EE1-8747-3B86609781CC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ftr" idx="39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 type="sldNum" idx="40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BDF0-32A2-4D32-8338-13B84A501E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2649-A6D5-48BB-B849-D3758B70A7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9779-7543-4794-86F0-C36030422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0 per cent of university entrants coming from the most disadvantaged 20 per cent of socie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F552-5805-49F1-9BBB-61FD8DF709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rly years not an inoculation and sustained support needed at all s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5563-8B9F-4C04-BFC0-599BB29A9D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outine attendance at school PTA meeting etc don’t appear to make a difference and stratified by SES anyway. i.e., parents from poorer background don’t get involved in tha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3FE3-01C7-4BF0-9BC2-36F511210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6D11-A5CE-45B0-97AA-0336E94C0F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ability children from most deprived families perform worse than average ability from least deprived by KS4 despite large differences at pri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ability children from least deprived catch average ability most deprived children by KS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S1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maths, reading and science levels. Standardised and take percen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S2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maths and English fine grade levels. Standardise and take percentiles of distrib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S4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s score. Standardise and take percentiles of distrib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DF6B-4953-4A0A-8BBA-522EB02F6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2986-C052-4CB0-B15E-00712C959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portant to keep these statistics in mind when thinking about who is 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468F-4799-40CA-8E72-A01482FDE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rect relationship between deprivation, tariff and future destination such as access to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average 2012 tariff for the most deprived is good to take them to FE but significantly lower than the average entry to H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6.7% of leavers from the 2012-13 school leaver cohort from deprivation deciles 1 and 2 achieved an average tariff of 664 or above – the average score of those going on to HE study – who are these, rich leaving in poorer areas or children from poorer backgrounds doing well? – what can we learn from th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us, if we want to widen access to HE, employment or volunteering, we will need to attend to the attainment of children from low income househo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have made good strides but need to aim for perfection by asking other Key questions such as what are people doing when they get to these destinations – how positive are positive destina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BF28-387F-4122-9A88-AEEF4D6C4A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29314B-C60F-4E8B-A0DD-1E585ED1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D05795-4E71-42A2-B202-5D39D983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1518EA-7D16-4618-AF15-CD3F1E71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5F4340-D516-4876-982D-453ADAAC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B06C41-0388-4794-B3BC-5682220A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4F61E2-FADB-4E24-9F22-C0504769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6ED14B-4400-41CA-9FFE-9AB7CE97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DE7504-80A2-4EE7-BBE4-8158E8F1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193397-6D77-4792-A21F-4BBE4251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12FC69-E4C7-4802-9B30-18328F1E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FBF422-3FDA-48CB-B937-53B767D1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4C439F-4A3D-4571-BF37-5C5239C6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0FD63E-D3DA-4F3E-95BD-2F5D470C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0026AE-DB44-4E75-88F3-2BB8EEE3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ABD9A1-9F79-4F00-BC0B-8835EAC4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A605F4-EB62-4C43-AA23-E3C128A6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5691E9-1EF5-4CD4-B4B8-F13F5922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E01558-F9E8-4FCA-A1C6-C17A3C16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A11B96-3B20-481D-A7D0-39D3CBB0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615E57-900E-4307-88FD-958378B2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E22632-4AA4-4E3C-9F93-10BDD322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31E93-CE9B-4358-84E2-6DA997BC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34EB55-9021-4FCD-8AAA-ABD19CD4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1F20B1-3210-4A1C-B1E0-9A335F0D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E67A55-F11A-4E74-A3FD-30641C28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5666C-76F3-4548-A16F-ED24F84D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AC6361-2596-43DC-A9C4-842C8B06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75D711-5CDF-4B97-AED4-44C16A65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749EBD-4879-4A11-B905-56EEA4F5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090EED-BB68-4C0F-BE07-306BF01E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EB92-D0B0-49BE-94E8-123BF6F6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87FEF2-9D63-4F80-A946-70F4A4C1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A1FDB-9B2A-48D5-9D77-FF4B39EE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6763E7-1610-4A8F-8822-67CA91A0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EBA235-0E1B-4AAB-AEC1-81CD6819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2E08D-4E70-4B83-AC19-32A32C5D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F19537-B10B-469C-BE00-34F699D6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48DB2-7423-49AD-B1B1-A96A456B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16C619-25B1-4838-A595-A1A8E491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5E9244-5D58-4AAD-B529-9274797E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544D98-6488-4641-834E-4EC44A1F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B91F-1C07-48AC-B63F-6E0BA5A1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1C8832-F9DA-4346-A149-BCDE1E6B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E7FCC3-6A73-47FE-8EFD-06637A4F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587450-7126-4D0F-BEA4-AA003E0F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7F5238-E193-4F03-8051-04173E41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4DAF89-A18A-470C-B445-6E3E20B7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44CC67-D106-462A-A24E-9510CE53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7F6657-068A-487A-B886-7EFE4761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A4F9BE-4B8A-4891-B365-07787710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107A99-FA6C-429E-A72F-2A04C6A0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86B373-432E-4F6B-A71F-34701083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143D-9F59-49AD-AE60-B4DB9A80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8078F4-35E3-4184-8C26-F393C94A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C39D1A-BABA-4980-87D0-B9321550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7BEA2B-07FF-4878-97E8-7C4B2609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E0BEEF-6F1D-4B26-8F1C-8B4F1B23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041A1B-0425-40EA-B02D-B70D2A55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C5AB1C-3EEF-4B84-B446-6CF533A7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7F0A0F-189E-4ADE-88D7-E70AFF94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0C2AFB-9526-43CB-8312-D46C5048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2AE5E-EFB3-4C13-A21C-CF4E7019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377746-C18E-4E99-8417-66A4F337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A9BD-A801-45E4-A72D-B4041945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F48E14-70BF-4615-8651-52B0AC83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644C8E-583F-4E3A-B27F-7C66D137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1D7E6-6F39-4928-81F5-4C17ABEA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6BA22E-CE29-4C82-B66B-01A057F5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0A8868-E74D-4105-AA07-1139E6FF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AC01C0-EC14-4AA6-B6C9-BFA460C9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BD97A2-C67D-4E2B-9D55-385D3F8F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6C91FE-6BED-4633-97DF-18A2B5A2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99F05B-417C-46CC-9642-FA2BBFB9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4DB71F-48FA-457E-88EB-AB7459EC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C4A0-E578-43A6-8ADD-11923907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E86387-0E71-4C0B-8B66-EBD90157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45213A-4643-4A21-9467-907CAB47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36D02B-7662-47D4-A17B-8DEF8829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3AE4BD-04D1-4DC9-BE62-BECF509C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5336298-81AF-4489-A316-823F433E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6CD071-85BB-49C6-9960-14F089F5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F2B2478-F8F9-413D-ACAE-FE7A9AAC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7D30190-6EB5-497B-8A5A-C2C1112D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7C3B24-BD46-46C1-9DDE-94EF63D8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7C5DFD-81C6-4AFD-96CD-CD3213D5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25B6-B1DC-44FD-AAC6-28170BFD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64B833-8C41-4F9D-A9F4-7E94B090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8BA-AC72-4A98-8C2F-9ED7A7E3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3BEB-85B4-4FA5-A0B9-0DA7ED0E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D4F-0AD7-4F37-BFC4-E490E4C3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F234-C104-4E5A-A5A7-0D031965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99B0-8CCC-4F08-89E5-4C68432F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5FDC-1DBC-408A-BE27-15203953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01DDA-8647-4E57-996B-02593CB03E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C7347-1FC9-4B98-BB43-A3DA8A11B5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8A2C2-99B8-4C18-ADF8-B22BF2C41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578FA-B6C5-46AC-AFFA-A9D3C435DE8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45815-4A49-4969-89A1-8EC141DA651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F8BE4-C5E1-484C-A568-C8C30E625E0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AC2B0-072E-410E-937D-208FC41E28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7F7A7-F521-4265-B50E-EFEE6CE7CBF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BEB1D-F50E-4AE9-8B5C-06B93CB9AF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42542-7BAC-4378-8FA7-9DD5522EC4E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A556C-A537-4149-9956-135C807D94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3DFE4-BC6D-437F-83DA-6D1F5BAA7A2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08BC6A-67AD-4711-B4C4-6894C780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09730C-FC59-44DB-A4D5-A2B9B3AA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4CB8F3-BDDC-4646-99D8-89FDDA5D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F40ED6-6DD1-4F8B-9753-D347234B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1460C2-F019-4C32-A149-B0469343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C46253-ED5F-441F-A9DE-7168CBD3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77275F-0233-4894-878A-E245B54E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AB6754-6791-4F62-B61B-A4B99952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E9628A-A856-4944-B4E7-12AA0ECA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198758-4C33-4111-B6BF-4FCB44F0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9F5E4D-F63C-467E-9CDB-3447FED6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41E1BC-D73C-4963-A553-AAE06D7A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C3C810-97D6-4DBC-B39E-634C4C23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FA13BB-7049-4585-9A4F-B424AF57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EEFE3B-6E81-452E-9235-7C05D307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B81E76-6592-4DD8-B5E3-50B37270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EFEA3F-ADA6-410F-B2D6-8D10D672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A58AE0-46A8-4F00-99FD-C9A9D476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3A7E3F-A2B6-46EF-B9EE-EE680EEB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910096-9542-465A-9CAE-BF38786E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1AD605-D840-46F1-98DC-A3ED3394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F8D219-B33F-43C5-BE7C-1A099E74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DA0D79-FFFB-4D30-83B3-377C6978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FC0D7B-BA15-47C9-9396-F45BC962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FF7C7C-4BB6-4CF4-86DE-3D874132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62E0D1-690F-4E33-988D-007B2726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E735DA-37A6-4736-B943-B58800B8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0CD75F-6C31-4873-BE2E-82F0DBB8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98C717-E2B0-4C11-9D3A-1D45B66C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19B848-2817-49CE-BC62-F17757D7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58735F-469D-4DBE-8941-D923A974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6FA708-7FD0-4755-9AA3-397B0B33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C4AB97-4689-450C-B58C-DADD8C83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07AA5F-FDFA-45AC-8D87-C1E26644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9F9762-5833-42EE-A0A0-51C3CC7E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1FC0E3-FFDE-4432-B6D0-7CED9584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6E879C-E805-4C0C-B61D-24025B03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B9B4B2-866D-4E8A-9B0F-5FD6E27D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AFA59B-A177-4AA6-A9AE-FA30C9A2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9E6AF4-A851-4DCE-B419-58E66C7F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C0AEAD-97CF-49F8-B8E9-83E50D71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F3A9B6-B3B5-497D-9470-57BC8C88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AFC563-B714-420C-A015-72B98A77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3B02DD-3B11-4F91-94CD-45214965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77579F-5953-4598-A3E3-EC8F9F49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9DCEA5-ABDF-4D62-8332-02B4FDCC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169E9B-2459-462D-BC8B-09D6842F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095FF6-AEBF-492D-A99F-22CF089E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531B65-0C21-4734-B098-9553E787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216A6B-7263-430E-9AD7-2A379F99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FDC336-FF9F-436B-831E-21F05AAB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111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7FF2-E664-4FF9-9F89-1BB26C51E268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0946-930D-4A90-8AC1-91C12D3F36C1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5005-2AA6-4882-B894-8C42AB8443CF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29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0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1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6A79-C402-4D39-A3F2-A5FAF5501B83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0BC6-44D2-4872-B005-C7790236E695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6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12BD-918B-46CE-9574-67F16AD1D34B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D7B9-D5A0-4D74-AF74-A3AC5FC1BEE7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2120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552720" y="6426360"/>
            <a:ext cx="21337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5D51-541F-4812-ADE9-9D1C014F3E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BEEB-7D8C-47C3-8811-32CD2B6AD3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9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0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2078-1D9E-4762-B33A-0FADACEE4C2C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2BB7-8D0B-4F2F-98F4-78F9476F39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A546-46B7-4E54-A5CC-176640EDCD68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4F82-9168-49E1-A6C2-1628112C9534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edward.sosu@strath.ac.uk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suttontrust.com/public/documents/readinggap.pdf" TargetMode="External"/><Relationship Id="rId3" Type="http://schemas.openxmlformats.org/officeDocument/2006/relationships/hyperlink" Target="http://browse.oecdbookshop.org/oecd/pdfs/product/9107211e.pdf" TargetMode="External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7360" y="2692080"/>
            <a:ext cx="816912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osing the Poverty - Attainment Gap in Scottish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557280" y="4765320"/>
            <a:ext cx="816768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Dr Edward So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2"/>
          <p:cNvSpPr/>
          <p:nvPr/>
        </p:nvSpPr>
        <p:spPr>
          <a:xfrm>
            <a:off x="5421240" y="2330280"/>
            <a:ext cx="322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9"/>
          <p:cNvSpPr/>
          <p:nvPr/>
        </p:nvSpPr>
        <p:spPr>
          <a:xfrm>
            <a:off x="4216320" y="505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Box 1"/>
          <p:cNvSpPr/>
          <p:nvPr/>
        </p:nvSpPr>
        <p:spPr>
          <a:xfrm>
            <a:off x="2329920" y="6423120"/>
            <a:ext cx="39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dening Access to Higher Education Conference  May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3283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522000" y="1571400"/>
            <a:ext cx="809604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cro level data based on SSL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p persists and widen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narrowing of gap in P4 ‘writing’ in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ro level data suggest narrowing of gap particularly with reference to S4 tariff 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tainment is a key determinant of entry to high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533160" y="1987560"/>
            <a:ext cx="80960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part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factors that might account for this gap in attai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3960" y="1204560"/>
            <a:ext cx="80964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riched vs disadvantaged hom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mily stressors associated with pover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 exclusion and bull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dden cost of education – school trips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ching and learning practices – ability grou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cher preju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5313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th’ of low parental educational aspi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0" y="2093400"/>
            <a:ext cx="403848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iration guided by ‘rational decision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d to have high aspi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sue is how best to support them to turn aspirations to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Content Placeholder 6" descr=""/>
          <p:cNvPicPr/>
          <p:nvPr/>
        </p:nvPicPr>
        <p:blipFill>
          <a:blip r:embed="rId1"/>
          <a:stretch/>
        </p:blipFill>
        <p:spPr>
          <a:xfrm>
            <a:off x="3894120" y="2452680"/>
            <a:ext cx="5249880" cy="3990960"/>
          </a:xfrm>
          <a:prstGeom prst="rect">
            <a:avLst/>
          </a:prstGeom>
          <a:ln w="0">
            <a:noFill/>
          </a:ln>
        </p:spPr>
      </p:pic>
      <p:sp>
        <p:nvSpPr>
          <p:cNvPr id="688" name="TextBox 2"/>
          <p:cNvSpPr/>
          <p:nvPr/>
        </p:nvSpPr>
        <p:spPr>
          <a:xfrm>
            <a:off x="7527600" y="635940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Sosu, 20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533160" y="1987560"/>
            <a:ext cx="80960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ing the Ga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and Policy Instru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6040" y="2144880"/>
            <a:ext cx="831852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osed Education (Scotland) Bill and fun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FC’s Widening Access initiativ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dening Access Commission – ‘Vision 20/20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Years Collaborative (but not an inocul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intervention at every tier of the educ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160" y="782640"/>
            <a:ext cx="80960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Early Years:  What work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533160" y="1269720"/>
            <a:ext cx="83358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ding EY provisio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high quali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itive learning experiences; clear learning objectives; explicit focus on language, early-reading &amp; number concepts, non-verbal reaso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ll qualified sta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ldren from mixed socio-economic backgrou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PPE project found tha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isadvantaged childre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attended quality preschool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erformed better 5 years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Higgins et al., 2013; Sammons et al., 2007; Sylva et al., 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. School-wide: Parental Invol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ng parents to work with their children to improve their lear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SPOKES project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 parents to use Pause, Prompt &amp; Praise 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bined with intervention to reduce behaviou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howed increased attainment by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13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cott et al.,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160" y="882720"/>
            <a:ext cx="809604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ental Involvement: What probably does not work alone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85640" y="2317680"/>
            <a:ext cx="809640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tion and parent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homework tas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ng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al volunteering in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9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. Effective Pedagogies</a:t>
            </a:r>
            <a:br>
              <a:rPr sz="43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533160" y="1846080"/>
            <a:ext cx="8096040" cy="46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r Tu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essment and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a-cognitive and self-regula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n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180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0760" y="84744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verty and Education in Scot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7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ttle of the variation in student achievement in Scotland is associated with the ways in which schools differ... </a:t>
            </a: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Who you are in Scotland is far more important than what school you atte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2d2d8a"/>
                </a:solidFill>
                <a:latin typeface="Arial"/>
              </a:rPr>
              <a:t>so far as achieve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ifferences on international tests are concerned. </a:t>
            </a: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Socio-economic status is the most important difference between individu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” (OECD, 2007, p.1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4. Fu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533160" y="1987560"/>
            <a:ext cx="809604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cessary but not sufficient condition for improving attai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arious models exist –Title I (USA), London &amp; City Challenge, Pupil Premium (England), ‘Scottish Model?’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  far, only London Challenge shown to make some impact on attainment and narrowed the gap (</a:t>
            </a: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some doubt on level of effect -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Greaves et al., 2014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unding – what 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596880" y="1987560"/>
            <a:ext cx="809640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ear focus on improving attai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rong emphasis on use of data to monitor impact of interven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upporting strong collaboration between sch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rong element of parental invol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chool interventions guided by strong evidence of what 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unding – what does not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533160" y="1987560"/>
            <a:ext cx="80960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duced budget and support in other are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parate provisions that result in stigmati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road goals without specific guidance to sch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hort term external support for tu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ventions that rely on anecdotal evi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 consistent monitoring of impact on attai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. Knowledge Gen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atically documenting evidence within a Scottish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ace for ‘plausible’ experimentation as part of funding – removing fear of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pturing process and outcome data to inform future intervention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What will help? Smarter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533520" y="1987560"/>
            <a:ext cx="81849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w, Scottish, approach t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ment &amp; attainment data, engagement, data &amp; demographic data - to directly feed curriculum and teaching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new understandings, uses, organisational systems and interrogation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-stakes testing is NO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Chart 144" descr=""/>
          <p:cNvPicPr/>
          <p:nvPr/>
        </p:nvPicPr>
        <p:blipFill>
          <a:blip r:embed="rId1"/>
          <a:stretch/>
        </p:blipFill>
        <p:spPr>
          <a:xfrm>
            <a:off x="1415880" y="1589040"/>
            <a:ext cx="6564600" cy="454356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9640" y="16812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data can help us see 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ble students are falling behind whilst rich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 abilit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gain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1"/>
          <p:cNvSpPr/>
          <p:nvPr/>
        </p:nvSpPr>
        <p:spPr>
          <a:xfrm>
            <a:off x="1343160" y="6081840"/>
            <a:ext cx="50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urtesy of Prof Anna Vignoles (University of Cambrid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9680" y="3535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ant elements for success of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533160" y="1987560"/>
            <a:ext cx="809604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idence-bas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‘basket of’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- monitoring of impact on student at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apting intervention to specific con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Beyond education – Tackling inequality i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ing Inspirational and believing in the stude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533160" y="795240"/>
            <a:ext cx="809604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 Edward So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dward.sosu@strath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dit to: Prof Sue Ellis, Dr Jim McCormick (JR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Report freely available on JRF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osing the attainment gap in Scottish education (Sosu &amp; Ellis, 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0" y="148428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Bradshaw, P. (2011) Growing Up in Scotland (2011) Changes in child cognitive ability in the pre-school years Edinburgh; Scottish Government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Gorard, S., See, B. H. and Davies. P. (2012) </a:t>
            </a: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The impact of attitudes and aspirations on educational attainment and participation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. York: The Joseph Rowntree Foundation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Higgins, S. et al., (2013). The Sutton Trust-Education Endowment Foundation Teaching and Learning Toolkit. London. EEF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Jerrim, J. (2013) </a:t>
            </a: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The Reading Gap: The socio-economic gap in children’s reading skills: A cross-national comparison using PISA 2009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. [Online]. Available from </a:t>
            </a:r>
            <a:r>
              <a:rPr b="0" lang="en-GB" sz="16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www.suttontrust.com/public/documents/readinggap.pdf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 [Accessed 15th July 2013]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OECD (2007) </a:t>
            </a: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Quality and Equity of Schooling in Scotland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. [Online]. Available from </a:t>
            </a:r>
            <a:r>
              <a:rPr b="0" lang="en-GB" sz="1600" spc="-1" strike="noStrike" u="sng">
                <a:solidFill>
                  <a:srgbClr val="168bba"/>
                </a:solidFill>
                <a:uFillTx/>
                <a:latin typeface="Corbel"/>
                <a:hlinkClick r:id="rId3"/>
              </a:rPr>
              <a:t>http://browse.oecdbookshop.org/oecd/pdfs/product/9107211e.pdf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 [Accessed 12th March 2013]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Sharples, J. et al., (2011).Effective classroom strategies for closing the gap in educational achievement for children and young people living in poverty, including white working-class boys. </a:t>
            </a: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Schools and Communities Research Review 4.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 C4EO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Sosu, E. and Ellis, S. (2014); Closing the attainment gap in Scottish education; York: Joseph Rowntree Foundation.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Sosu, Edward (2014) </a:t>
            </a: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Predicting maternal aspirations for their children's education : the role of parental and child characteristics.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 International Journal of Educational Research, 67. pp. 67-79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Topping, K. J., Miller, D., Murray, P., Henderson, S., Fortuna, C., &amp; Conlin, N. (2011). Outcomes in a randomised controlled trial of mathematics tutoring. Educational Research, 53(1), 51-63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Wilkinson, R. and Pickett, K. (2009)  </a:t>
            </a:r>
            <a:r>
              <a:rPr b="0" i="1" lang="en-GB" sz="1600" spc="-1" strike="noStrike">
                <a:solidFill>
                  <a:srgbClr val="000000"/>
                </a:solidFill>
                <a:latin typeface="Corbel"/>
              </a:rPr>
              <a:t>The Spirit Level: Why Equality is Better for Everyone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, Penguin Books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9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9620-5885-447D-B08A-51034DBEB5FC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o ARE ‘the poor’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77480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6% of children in poverty were in working household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2011/1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p from 43%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1996/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412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ocial Mobility and Child Poverty Commission, 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2013 around 17% of households were ‘workles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in this 8% never worked – constitutes  1.5% of all households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cInnes et al., 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o ARE ‘the poor’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" descr=""/>
          <p:cNvPicPr/>
          <p:nvPr/>
        </p:nvPicPr>
        <p:blipFill>
          <a:blip r:embed="rId1"/>
          <a:stretch/>
        </p:blipFill>
        <p:spPr>
          <a:xfrm>
            <a:off x="457200" y="2206800"/>
            <a:ext cx="8229600" cy="3762360"/>
          </a:xfrm>
          <a:prstGeom prst="rect">
            <a:avLst/>
          </a:prstGeom>
          <a:ln w="0">
            <a:noFill/>
          </a:ln>
        </p:spPr>
      </p:pic>
      <p:sp>
        <p:nvSpPr>
          <p:cNvPr id="653" name="TextBox 2"/>
          <p:cNvSpPr/>
          <p:nvPr/>
        </p:nvSpPr>
        <p:spPr>
          <a:xfrm>
            <a:off x="2754360" y="621180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acInnes et al., 20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o ARE ‘the poor’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2" descr=""/>
          <p:cNvPicPr/>
          <p:nvPr/>
        </p:nvPicPr>
        <p:blipFill>
          <a:blip r:embed="rId1"/>
          <a:stretch/>
        </p:blipFill>
        <p:spPr>
          <a:xfrm>
            <a:off x="457200" y="2098800"/>
            <a:ext cx="8229600" cy="3978000"/>
          </a:xfrm>
          <a:prstGeom prst="rect">
            <a:avLst/>
          </a:prstGeom>
          <a:ln w="0">
            <a:noFill/>
          </a:ln>
        </p:spPr>
      </p:pic>
      <p:sp>
        <p:nvSpPr>
          <p:cNvPr id="656" name="TextBox 2"/>
          <p:cNvSpPr/>
          <p:nvPr/>
        </p:nvSpPr>
        <p:spPr>
          <a:xfrm>
            <a:off x="3329640" y="6273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acInnes et al., 20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overty-Attainment Gap: Early Years</a:t>
            </a:r>
            <a:br>
              <a:rPr sz="36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GUS [Bradshaw et al., 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51732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gap starts in the early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ap between children from richest and poorest background at age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eft-Right Arrow 2"/>
          <p:cNvSpPr/>
          <p:nvPr/>
        </p:nvSpPr>
        <p:spPr>
          <a:xfrm>
            <a:off x="1835280" y="3736800"/>
            <a:ext cx="4722840" cy="138780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3c8c9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6-13 months in problem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eft-Right Arrow 4"/>
          <p:cNvSpPr/>
          <p:nvPr/>
        </p:nvSpPr>
        <p:spPr>
          <a:xfrm>
            <a:off x="1403280" y="5246640"/>
            <a:ext cx="5977080" cy="1440000"/>
          </a:xfrm>
          <a:prstGeom prst="leftRightArrow">
            <a:avLst>
              <a:gd name="adj1" fmla="val 50000"/>
              <a:gd name="adj2" fmla="val 50001"/>
            </a:avLst>
          </a:prstGeom>
          <a:solidFill>
            <a:srgbClr val="3c8c9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1-18 months in expressive 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14360" y="34884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age of pupils performing well or very well by deprivation (Numeracy SSLN, 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Object 3" descr=""/>
          <p:cNvPicPr/>
          <p:nvPr/>
        </p:nvPicPr>
        <p:blipFill>
          <a:blip r:embed="rId1"/>
          <a:stretch/>
        </p:blipFill>
        <p:spPr>
          <a:xfrm>
            <a:off x="539640" y="1876320"/>
            <a:ext cx="8093160" cy="44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3" name="Object 4"/>
          <p:cNvGraphicFramePr/>
          <p:nvPr/>
        </p:nvGraphicFramePr>
        <p:xfrm>
          <a:off x="873000" y="1108080"/>
          <a:ext cx="7634520" cy="52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1108080"/>
                    <a:ext cx="7634520" cy="52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gap matter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ss to HE and future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Content Placeholder 3" descr=""/>
          <p:cNvPicPr/>
          <p:nvPr/>
        </p:nvPicPr>
        <p:blipFill>
          <a:blip r:embed="rId1"/>
          <a:stretch/>
        </p:blipFill>
        <p:spPr>
          <a:xfrm>
            <a:off x="3240" y="1563840"/>
            <a:ext cx="9370800" cy="5373360"/>
          </a:xfrm>
          <a:prstGeom prst="rect">
            <a:avLst/>
          </a:prstGeom>
          <a:ln w="0">
            <a:noFill/>
          </a:ln>
        </p:spPr>
      </p:pic>
      <p:sp>
        <p:nvSpPr>
          <p:cNvPr id="667" name="TextBox 2"/>
          <p:cNvSpPr/>
          <p:nvPr/>
        </p:nvSpPr>
        <p:spPr>
          <a:xfrm>
            <a:off x="1208160" y="2201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6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4"/>
          <p:cNvSpPr/>
          <p:nvPr/>
        </p:nvSpPr>
        <p:spPr>
          <a:xfrm>
            <a:off x="1932840" y="35416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643120" y="4827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7"/>
          <p:cNvSpPr/>
          <p:nvPr/>
        </p:nvSpPr>
        <p:spPr>
          <a:xfrm>
            <a:off x="3173400" y="3079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traight Connector 9"/>
          <p:cNvSpPr/>
          <p:nvPr/>
        </p:nvSpPr>
        <p:spPr>
          <a:xfrm>
            <a:off x="1679400" y="2878200"/>
            <a:ext cx="6008760" cy="0"/>
          </a:xfrm>
          <a:prstGeom prst="line">
            <a:avLst/>
          </a:prstGeom>
          <a:ln w="381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traight Connector 12"/>
          <p:cNvSpPr/>
          <p:nvPr/>
        </p:nvSpPr>
        <p:spPr>
          <a:xfrm>
            <a:off x="1679400" y="3541680"/>
            <a:ext cx="60087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Box 14"/>
          <p:cNvSpPr/>
          <p:nvPr/>
        </p:nvSpPr>
        <p:spPr>
          <a:xfrm>
            <a:off x="7827480" y="33210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D=2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Box 17"/>
          <p:cNvSpPr/>
          <p:nvPr/>
        </p:nvSpPr>
        <p:spPr>
          <a:xfrm>
            <a:off x="7846560" y="26640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D=5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15"/>
          <p:cNvSpPr/>
          <p:nvPr/>
        </p:nvSpPr>
        <p:spPr>
          <a:xfrm>
            <a:off x="4213080" y="3079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4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Box 16"/>
          <p:cNvSpPr/>
          <p:nvPr/>
        </p:nvSpPr>
        <p:spPr>
          <a:xfrm>
            <a:off x="4859280" y="5070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18"/>
          <p:cNvSpPr/>
          <p:nvPr/>
        </p:nvSpPr>
        <p:spPr>
          <a:xfrm>
            <a:off x="5673600" y="4624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Box 19"/>
          <p:cNvSpPr/>
          <p:nvPr/>
        </p:nvSpPr>
        <p:spPr>
          <a:xfrm>
            <a:off x="6321600" y="4572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Box 22"/>
          <p:cNvSpPr/>
          <p:nvPr/>
        </p:nvSpPr>
        <p:spPr>
          <a:xfrm>
            <a:off x="6994440" y="4572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0:33:18Z</dcterms:created>
  <dc:creator>scott o'donnell</dc:creator>
  <dc:description/>
  <dc:language>en-US</dc:language>
  <cp:lastModifiedBy>Susan</cp:lastModifiedBy>
  <cp:lastPrinted>2015-05-14T11:04:27Z</cp:lastPrinted>
  <dcterms:modified xsi:type="dcterms:W3CDTF">2016-01-13T21:28:41Z</dcterms:modified>
  <cp:revision>206</cp:revision>
  <dc:subject/>
  <dc:title>PowerPoint Presentation</dc:title>
</cp:coreProperties>
</file>