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dt" idx="38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B5D2-250B-499D-A64C-8B8C4D3E5139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ftr" idx="39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 type="sldNum" idx="40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A149-8CA5-458D-BA13-264417295C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9E5B-1113-44E6-B5DC-1F35F2D30B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4DF1-93B5-4EAB-99C2-7E69B158D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0 per cent of university entrants coming from the most disadvantaged 20 per cent of socie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20B8-57DE-4E36-9920-9336290EAC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arly years not an inoculation and sustained support needed at all st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71A3-CABF-43CA-ACBB-8397F50D3B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outine attendance at school PTA meeting etc don’t appear to make a difference and stratified by SES anyway. i.e., parents from poorer background don’t get involved in that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2ADC-9BE8-465D-8552-4E0E46035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59A2-5C5E-45B6-82D2-F495FFDB67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ability children from most deprived families perform worse than average ability from least deprived by KS4 despite large differences at pri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 ability children from least deprived catch average ability most deprived children by KS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S1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of maths, reading and science levels. Standardised and take percenti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S2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of maths and English fine grade levels. Standardise and take percentiles of distrib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S4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nts score. Standardise and take percentiles of distrib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36B4-2371-4265-B121-3FA6F5299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268F-C594-435D-8E79-B462A904A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portant to keep these statistics in mind when thinking about who is 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86A6-181B-498B-AD94-AE7916B2F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rect relationship between deprivation, tariff and future destination such as access to 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average 2012 tariff for the most deprived is good to take them to FE but significantly lower than the average entry to H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6.7% of leavers from the 2012-13 school leaver cohort from deprivation deciles 1 and 2 achieved an average tariff of 664 or above – the average score of those going on to HE study – who are these, rich leaving in poorer areas or children from poorer backgrounds doing well? – what can we learn from th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us, if we want to widen access to HE, employment or volunteering, we will need to attend to the attainment of children from low income househo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 have made good strides but need to aim for perfection by asking other Key questions such as what are people doing when they get to these destinations – how positive are positive destinat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77EE-BADB-4900-B91D-6590EB5E7E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D34BE8-D991-446A-AEFC-2A43DC9B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A71D51-02CC-4A9E-8D42-78AFD1F4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68EA8E-0A02-465D-B405-4F20861F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67D556-75F5-43B5-8519-AC0C5579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365AB8-9E50-406C-8E3B-7A88306B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8D4EE2-41A7-4E5F-937E-C309278C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AFC636-FFBE-48CA-9710-DD6B925B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356995-E08D-497D-BB48-5DC9B1E2A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4B0337-4928-458F-9CE6-0F9CE80D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7D1F09-E644-4D90-A899-EE169248D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83EC2A-EAD3-4B43-BC85-B6987D31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6B5193-4AD6-4352-A70C-9EF69FE9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1FA5DA-3819-4F1B-AF05-BE59B4CC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39006B-1969-4A15-A8FA-DF001DCD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501F7D-6938-4836-973D-783CFBD9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1BD8AA-F740-4D62-9E7F-87E04181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96DAFA-994F-4D3B-BF47-79AC4E98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CDDDCF-F1FC-4F81-B73C-0565ACA6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D9E450-99BD-45F1-89E8-11E2CE29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52F1CC-D17B-488C-9537-AA35CC8F7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B5412F-61F3-4EE8-9648-7742DEB4B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91D0E3-5665-46DD-80A0-BDAB29E5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D36865-64E7-4A71-9405-2FF92050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A0D2D8-2B81-48F0-BE2D-EFADC718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E6C4AD-9851-4D28-A59F-F089E589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40844E-5136-4236-B004-ADF0923F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609CE5-C3FF-4477-9E51-D472717B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3D6428-498B-46B2-8C04-A683D14C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2A8B7C-9049-4742-A515-194CD1E3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6AD385-C363-4EED-8191-853E529C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0D04-CD8E-44A8-A91F-0AEB3C0CF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611035-0D40-4249-B9FE-0CDAA201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EF3F2F-1DDF-4C2A-B302-82DBFA22C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EED26E-421B-4308-B7DE-A8A46685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FC48F7-6AE2-4FFF-9A1B-9C2A795B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F90E2F-D212-4576-BA65-BC43F341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4A9E66-BEB2-4202-8028-0020689D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3C2B6C-B597-4F8A-9DCF-E3B82FF3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AD7421-562E-49FA-9011-9112CEB6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47C9AF-9FCA-4FC6-87AC-C586DF28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D8E863-CCA3-42BF-88E8-5FB3799B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1F46-B88A-4974-AFD4-8B84DE52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77C133-9C37-414C-B251-0D58CC57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66DF5F-FB8A-4334-AD66-E7758C18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6D77BE-8742-40C6-A61C-1C5D6C5E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F907DE-A05C-4833-8B00-E306D1EA0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302F15-01F8-4DDC-992C-EE1FF6FA9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A616D9A-FBC9-42B6-A0B1-47B9664D8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8E35360-224C-4767-8823-EC0EBDA1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B22D7A3-F6B1-4A7D-8A4D-519BEAB8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9B4C712-BA3D-4DD7-A897-A2D7C172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1AC6A4E-85FA-4CCF-9AED-8A18DB61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23A7-9B6F-4FBE-9C66-A24A8193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5498889-8FBE-48D0-B896-D030CC10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6BC11B8-0B37-4910-B223-4C19F474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402617B-A40B-4095-A2F7-09390AF6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1DD938-BD4C-4270-A598-1969EDCC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213BBA7-2545-4D70-BA8F-E2FC861F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7646559-928D-4DE5-B269-6FF4B2B24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D7528F2-4B5C-4867-9B3D-F3EED72F4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02282A-C601-4EAC-A3C1-7EBE06965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A75583-DF23-4625-8B90-B03235C8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98C174-1CA1-461A-A49C-16465F10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6CF4-D7D2-44E5-BDB9-8ACE54FF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989FDF-ADF7-4272-91FC-B3E91C91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30C046-F84E-477F-B5DA-A26B6EAD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77B1D5-11B4-48F2-841F-304E0596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E17A59-952E-4F39-89DC-B95F9C30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2F0EFB-2B50-4A80-815A-4F5D263A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9C5DCC-D45B-474E-AA00-F3D42509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0C3F8E-9E92-4C3F-8724-CD859230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0315F5-30D7-4971-8FE0-CB67A55F2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E11929-0C31-492B-A7D8-15D9E9C7E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FF15C0A-CCBA-4117-829A-EF996A00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511F-181D-4510-AAF6-71E9B246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4434223-5A54-40F9-9ED0-88660987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37EA9AA-3633-4CD8-92B0-B65E1E7A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20A2AA0-18AD-4FBC-BD93-51BB2CB5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B9DD17F-4EFE-4B30-A55B-71DF5484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65F225E-D588-4D48-B77B-5F9E57A4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15EA6DB-59AE-4A51-962A-8B4F9982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E56BC65-A273-4370-BC4B-6F182251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5C78B80-8BE1-4191-B8BF-40B7293B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2E6D1AC-FCA5-4C5E-A96D-145B241D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AC76A68-10A9-468A-9DCD-A8DCA036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9C0A-8B1A-4636-88E9-17355426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FDF8103-83D2-43E5-BEC5-DA4CAE81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9AFB-8FF0-4CAA-A3BD-B7709037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5D7C-81B2-4B11-9DC2-2D10DA6A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061D-9C8F-4BC1-BF3B-7398F1C1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CD64-E2F9-436A-BBB2-9477D651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171F-FE20-419A-9687-4A71E4F55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D403-2C13-442E-B325-987D8908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1327F-27D8-4928-BA90-5FF0427327F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F3206-C0F1-42CD-87D3-1FCAEED8C41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C2D93-5326-4B42-B69E-575BCFD57D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D5DAA-580A-4608-B251-7E2FE2218A8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EB38D-E678-4ECB-B937-D7C30F66E3F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24399-11FF-4E3C-A581-A4362752A21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1B424-9E63-44E5-8299-3E0AEF337DD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615F8-BE16-4D01-848D-6D88676F37E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D59F6-1B0C-469A-B346-0789C5E8533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25BAC-E2C5-4E83-A0DC-90B006FF1C2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50120-CC33-4E8E-84FA-8B0A36A5F3B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FE702-D70E-4BFB-8AFA-BD28EAB9467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1B8B26-9D49-4CE5-90DC-E2A3C10D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C94A36-01EB-4374-8B96-A385788C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72B4D9-7BFA-403B-89F8-7911E69E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000241-E71B-433E-A51D-B98058B9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A71224-7640-4B9D-BCC5-8374B894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139958-AC1F-4FDB-B274-4809B9A6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624C9F-6818-4C65-B28A-116E7520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88B7E8-5B43-43F5-B782-E461CE81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B37007-7FE9-4B22-846D-39AB7C0A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416971-79E4-48F7-B065-94494AFD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F15C1F-3F59-450D-BBD6-AA68DD21B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5BCB44-ABA1-49E4-8AA9-EB6E784C2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F256DE-128A-4132-BB43-5B00F8163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82CA0D-6D54-4DFA-8D2F-096B8EC4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B55635-82CF-49E1-88CB-97D1DC9E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AB1A2D-B80D-4AAE-8904-7848FCB6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08F504-9F92-48AF-ACC1-37C06F7E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0EC7B8-D34E-491B-ABB0-7153677A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6DCC09-88B9-4131-9FF8-0C51E513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329607-76B6-4D7C-962A-A4B0498D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E2B060-961B-41D2-B140-5396BD64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CD9233-EDD7-47C7-983E-BBC1A99C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8F0C69-13DC-4774-B377-3D11D8F1C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BF104B-D3B3-4EDF-AB8E-B3C8595F5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59F787-91A6-4A50-B54C-FDEA4C2B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CD7D83-4EBE-41CA-A65E-52EA419C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C5A7E9-1A57-4EE3-82BC-37E50F01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5F9A2D-1627-4150-93AE-BD9585AA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894749-5CBA-4980-AA93-B24D83B0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64FE54-E1B3-4B6D-9CD1-5F8CA716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2502E6-819A-4864-87FF-414A3220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D90495-5D5E-4F04-B612-2ECD3539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A7E9AA-D8EE-4405-BC65-EFB04D3C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4542D7-2FE2-4086-8B74-7A88CFD6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2C7DF9-D06B-4204-B44B-DCA8EAD72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F86E2C-1607-477D-BC6A-AF1C1DA7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D8591D-1E9D-4742-B5F7-5871F0F4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1A1277-DD44-4F5C-9E76-03BD9232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00EDBC-474F-446F-B043-C5CE3D22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02989D-C2E4-4B39-BB16-FC9CE2CA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7F8BD0-916C-4E34-AA93-B6156D7B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E4F675-081A-4DAF-A03F-2BD4194A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086075-D64B-4C3E-AB41-D6AEAD88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3B7D6E-65C5-4716-A8C6-BC60968E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013D93-4A4A-40D1-A078-4824DC51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49E9F3-64A4-4262-B338-E36DE6D6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F2969E-D293-4A0C-AA86-2A2E51F31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42024C-9ECB-40E4-B7A2-E6DA4390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2B0D0A-BBCF-41D2-A657-38E15313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402B7C-C986-4086-B677-91D3AD31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EEF776-9711-426F-87CE-E21877A0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1111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DB97-936F-4D78-B02B-7D820166EBFC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75B0-3500-4B66-AC1D-158F9F433320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7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2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A174-4F8B-4D7E-ADED-5A68A1350C3C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29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0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1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D129-655D-420F-9F1B-B79FE6926498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2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3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4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7A6A-2D59-42CB-9E19-674337130329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35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36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7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4DB0-F224-4263-AA1C-DCD2975EAFD9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3ED8-7C6F-4F23-B94B-46FBF5D9F311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2120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552720" y="6426360"/>
            <a:ext cx="213372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7451-2A2D-42C1-9B8C-823F06A06B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6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7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D30C-5D37-4705-B7E6-CBAF28CDD4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8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9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0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6F76-C780-49EA-8B21-69F39C311141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23B3-2847-4366-9F82-E7E5170A87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1485-F5EF-41A9-A336-69F12ACB0DBB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1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1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4F34-2AD2-49A8-8BAE-2E1ACC33A56A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edward.sosu@strath.ac.uk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suttontrust.com/public/documents/readinggap.pdf" TargetMode="External"/><Relationship Id="rId3" Type="http://schemas.openxmlformats.org/officeDocument/2006/relationships/hyperlink" Target="http://browse.oecdbookshop.org/oecd/pdfs/product/9107211e.pdf" TargetMode="External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87360" y="2692080"/>
            <a:ext cx="816912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osing the Poverty - Attainment Gap in Scottish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557280" y="4765320"/>
            <a:ext cx="816768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Dr Edward So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2"/>
          <p:cNvSpPr/>
          <p:nvPr/>
        </p:nvSpPr>
        <p:spPr>
          <a:xfrm>
            <a:off x="5421240" y="2330280"/>
            <a:ext cx="322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Box 9"/>
          <p:cNvSpPr/>
          <p:nvPr/>
        </p:nvSpPr>
        <p:spPr>
          <a:xfrm>
            <a:off x="4216320" y="505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Box 1"/>
          <p:cNvSpPr/>
          <p:nvPr/>
        </p:nvSpPr>
        <p:spPr>
          <a:xfrm>
            <a:off x="2329920" y="6423120"/>
            <a:ext cx="39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dening Access to Higher Education Conference  May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0" y="3283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522000" y="1571400"/>
            <a:ext cx="809604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cro level data based on SSL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p persists and widen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narrowing of gap in P4 ‘writing’ in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cro level data suggest narrowing of gap particularly with reference to S4 tariff sc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tainment is a key determinant of entry to higher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533160" y="1987560"/>
            <a:ext cx="80960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partn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factors that might account for this gap in attai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53960" y="1204560"/>
            <a:ext cx="80964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riched vs disadvantaged hom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mily stressors associated with pover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cial exclusion and bull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dden cost of education – school trips and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aching and learning practices – ability grou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acher prejud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53136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yth’ of low parental educational aspi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0" y="2093400"/>
            <a:ext cx="403848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iration guided by ‘rational decision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nd to have high aspi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sue is how best to support them to turn aspirations to re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Content Placeholder 6" descr=""/>
          <p:cNvPicPr/>
          <p:nvPr/>
        </p:nvPicPr>
        <p:blipFill>
          <a:blip r:embed="rId1"/>
          <a:stretch/>
        </p:blipFill>
        <p:spPr>
          <a:xfrm>
            <a:off x="3894120" y="2452680"/>
            <a:ext cx="5249880" cy="3990960"/>
          </a:xfrm>
          <a:prstGeom prst="rect">
            <a:avLst/>
          </a:prstGeom>
          <a:ln w="0">
            <a:noFill/>
          </a:ln>
        </p:spPr>
      </p:pic>
      <p:sp>
        <p:nvSpPr>
          <p:cNvPr id="688" name="TextBox 2"/>
          <p:cNvSpPr/>
          <p:nvPr/>
        </p:nvSpPr>
        <p:spPr>
          <a:xfrm>
            <a:off x="7527600" y="635940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Sosu, 20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533160" y="1987560"/>
            <a:ext cx="80960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ing the Ga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and Policy Instru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36040" y="2144880"/>
            <a:ext cx="8318520" cy="42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osed Education (Scotland) Bill and fun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FC’s Widening Access initiativ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dening Access Commission – ‘Vision 20/20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rly Years Collaborative (but not an inocul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or intervention at every tier of the educ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3160" y="782640"/>
            <a:ext cx="809604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Early Years:  What work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533160" y="1269720"/>
            <a:ext cx="833580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ding EY provisio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high qualit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itive learning experiences; clear learning objectives; explicit focus on language, early-reading &amp; number concepts, non-verbal reason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ll qualified sta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ildren from mixed socio-economic backgroun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PPE project found that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disadvantaged childre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 attended quality preschool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erformed better 5 years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8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8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Higgins et al., 2013; Sammons et al., 2007; Sylva et al., 20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. School-wide: Parental Invol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ing parents to work with their children to improve their learn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SPOKES project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 parents to use Pause, Prompt &amp; Praise 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bined with intervention to reduce behaviour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howed increased attainment by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13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cott et al.,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3160" y="882720"/>
            <a:ext cx="8096040" cy="10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ental Involvement: What probably does not work alone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485640" y="2317680"/>
            <a:ext cx="8096400" cy="44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ation and parenting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homework tas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ing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al volunteering in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97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. Effective Pedagogies</a:t>
            </a:r>
            <a:br>
              <a:rPr sz="43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533160" y="1846080"/>
            <a:ext cx="8096040" cy="46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180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up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180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er Tu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180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essment and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180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ta-cognitive and self-regulation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180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n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0760" y="84744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verty and Education in Scot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7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ttle of the variation in student achievement in Scotland is associated with the ways in which schools differ... </a:t>
            </a: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Who you are in Scotland is far more important than what school you atte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so far as achieve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ifferences on international tests are concerned. </a:t>
            </a: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Socio-economic status is the most important difference between individua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” (OECD, 2007, p.15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4. Fu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533160" y="1987560"/>
            <a:ext cx="809604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cessary but not sufficient condition for improving attai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arious models exist –Title I (USA), London &amp; City Challenge, Pupil Premium (England), ‘Scottish Model?’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o  far, only London Challenge shown to make some impact on attainment and narrowed the gap (</a:t>
            </a: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some doubt on level of effect -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Greaves et al., 2014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unding – what wo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596880" y="1987560"/>
            <a:ext cx="809640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lear focus on improving attai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rong emphasis on use of data to monitor impact of interven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upporting strong collaboration between scho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rong element of parental involv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chool interventions guided by strong evidence of what wo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unding – what does not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533160" y="1987560"/>
            <a:ext cx="809604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duced budget and support in other are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parate provisions that result in stigmati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road goals without specific guidance to scho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hort term external support for tu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terventions that rely on anecdotal evi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 consistent monitoring of impact on attai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5. Knowledge Gen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stematically documenting evidence within a Scottish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ace for ‘plausible’ experimentation as part of funding – removing fear of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pturing process and outcome data to inform future intervention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. What will help? Smarter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533520" y="1987560"/>
            <a:ext cx="818496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ew, Scottish, approach to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evement &amp; attainment data, engagement, data &amp; demographic data - to directly feed curriculum and teaching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new understandings, uses, organisational systems and interrogation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-stakes testing is NO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Chart 144" descr=""/>
          <p:cNvPicPr/>
          <p:nvPr/>
        </p:nvPicPr>
        <p:blipFill>
          <a:blip r:embed="rId1"/>
          <a:stretch/>
        </p:blipFill>
        <p:spPr>
          <a:xfrm>
            <a:off x="1415880" y="1589040"/>
            <a:ext cx="6564600" cy="454356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39640" y="16812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data can help us see </a:t>
            </a:r>
            <a:br>
              <a:rPr sz="24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ble students are falling behind whilst rich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 abilit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gain 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1"/>
          <p:cNvSpPr/>
          <p:nvPr/>
        </p:nvSpPr>
        <p:spPr>
          <a:xfrm>
            <a:off x="1343160" y="6081840"/>
            <a:ext cx="50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urtesy of Prof Anna Vignoles (University of Cambrid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39680" y="3535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ant elements for success of inter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533160" y="1987560"/>
            <a:ext cx="809604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idence-base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‘basket of’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- monitoring of impact on student at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apting intervention to specific con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Beyond education – Tackling inequality in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ing Inspirational and believing in the studen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533160" y="795240"/>
            <a:ext cx="8096040" cy="53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 Edward So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dward.sosu@strath.ac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dit to: Prof Sue Ellis, Dr Jim McCormick (JR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ll Report freely available on JRF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osing the attainment gap in Scottish education (Sosu &amp; Ellis, 20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 txBox="1"/>
          <p:nvPr/>
        </p:nvSpPr>
        <p:spPr>
          <a:xfrm>
            <a:off x="0" y="148428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Bradshaw, P. (2011) Growing Up in Scotland (2011) Changes in child cognitive ability in the pre-school years Edinburgh; Scottish Government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Gorard, S., See, B. H. and Davies. P. (2012) </a:t>
            </a:r>
            <a:r>
              <a:rPr b="0" i="1" lang="en-GB" sz="1600" spc="-1" strike="noStrike">
                <a:solidFill>
                  <a:srgbClr val="000000"/>
                </a:solidFill>
                <a:latin typeface="Corbel"/>
              </a:rPr>
              <a:t>The impact of attitudes and aspirations on educational attainment and participation</a:t>
            </a: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. York: The Joseph Rowntree Foundation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Higgins, S. et al., (2013). The Sutton Trust-Education Endowment Foundation Teaching and Learning Toolkit. London. EEF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Jerrim, J. (2013) </a:t>
            </a:r>
            <a:r>
              <a:rPr b="0" i="1" lang="en-GB" sz="1600" spc="-1" strike="noStrike">
                <a:solidFill>
                  <a:srgbClr val="000000"/>
                </a:solidFill>
                <a:latin typeface="Corbel"/>
              </a:rPr>
              <a:t>The Reading Gap: The socio-economic gap in children’s reading skills: A cross-national comparison using PISA 2009</a:t>
            </a: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. [Online]. Available from </a:t>
            </a:r>
            <a:r>
              <a:rPr b="0" lang="en-GB" sz="16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http://www.suttontrust.com/public/documents/readinggap.pdf</a:t>
            </a: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 [Accessed 15th July 2013]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OECD (2007) </a:t>
            </a:r>
            <a:r>
              <a:rPr b="0" i="1" lang="en-GB" sz="1600" spc="-1" strike="noStrike">
                <a:solidFill>
                  <a:srgbClr val="000000"/>
                </a:solidFill>
                <a:latin typeface="Corbel"/>
              </a:rPr>
              <a:t>Quality and Equity of Schooling in Scotland</a:t>
            </a: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. [Online]. Available from </a:t>
            </a:r>
            <a:r>
              <a:rPr b="0" lang="en-GB" sz="1600" spc="-1" strike="noStrike" u="sng">
                <a:solidFill>
                  <a:srgbClr val="168bba"/>
                </a:solidFill>
                <a:uFillTx/>
                <a:latin typeface="Corbel"/>
                <a:hlinkClick r:id="rId3"/>
              </a:rPr>
              <a:t>http://browse.oecdbookshop.org/oecd/pdfs/product/9107211e.pdf</a:t>
            </a: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 [Accessed 12th March 2013]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Sharples, J. et al., (2011).Effective classroom strategies for closing the gap in educational achievement for children and young people living in poverty, including white working-class boys. </a:t>
            </a:r>
            <a:r>
              <a:rPr b="0" i="1" lang="en-GB" sz="1600" spc="-1" strike="noStrike">
                <a:solidFill>
                  <a:srgbClr val="000000"/>
                </a:solidFill>
                <a:latin typeface="Corbel"/>
              </a:rPr>
              <a:t>Schools and Communities Research Review 4.</a:t>
            </a: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 C4EO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orbel"/>
              </a:rPr>
              <a:t>Sosu, E. and Ellis, S. (2014); Closing the attainment gap in Scottish education; York: Joseph Rowntree Foundation. 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Sosu, Edward (2014) </a:t>
            </a:r>
            <a:r>
              <a:rPr b="0" i="1" lang="en-GB" sz="1600" spc="-1" strike="noStrike">
                <a:solidFill>
                  <a:srgbClr val="000000"/>
                </a:solidFill>
                <a:latin typeface="Corbel"/>
              </a:rPr>
              <a:t>Predicting maternal aspirations for their children's education : the role of parental and child characteristics.</a:t>
            </a: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 International Journal of Educational Research, 67. pp. 67-79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Topping, K. J., Miller, D., Murray, P., Henderson, S., Fortuna, C., &amp; Conlin, N. (2011). Outcomes in a randomised controlled trial of mathematics tutoring. Educational Research, 53(1), 51-63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Wilkinson, R. and Pickett, K. (2009)  </a:t>
            </a:r>
            <a:r>
              <a:rPr b="0" i="1" lang="en-GB" sz="1600" spc="-1" strike="noStrike">
                <a:solidFill>
                  <a:srgbClr val="000000"/>
                </a:solidFill>
                <a:latin typeface="Corbel"/>
              </a:rPr>
              <a:t>The Spirit Level: Why Equality is Better for Everyone</a:t>
            </a: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, Penguin Books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9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4428-733E-4B5C-B706-9B0BC7C37AF4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o ARE ‘the poor’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77480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6% of children in poverty were in working household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2011/1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p from 43%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1996/9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412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ocial Mobility and Child Poverty Commission, 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2013 around 17% of households were ‘workles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in this 8% never worked – constitutes  1.5% of all households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MacInnes et al., 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o ARE ‘the poor’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2" descr=""/>
          <p:cNvPicPr/>
          <p:nvPr/>
        </p:nvPicPr>
        <p:blipFill>
          <a:blip r:embed="rId1"/>
          <a:stretch/>
        </p:blipFill>
        <p:spPr>
          <a:xfrm>
            <a:off x="457200" y="2206800"/>
            <a:ext cx="8229600" cy="3762360"/>
          </a:xfrm>
          <a:prstGeom prst="rect">
            <a:avLst/>
          </a:prstGeom>
          <a:ln w="0">
            <a:noFill/>
          </a:ln>
        </p:spPr>
      </p:pic>
      <p:sp>
        <p:nvSpPr>
          <p:cNvPr id="653" name="TextBox 2"/>
          <p:cNvSpPr/>
          <p:nvPr/>
        </p:nvSpPr>
        <p:spPr>
          <a:xfrm>
            <a:off x="2754360" y="621180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MacInnes et al., 20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o ARE ‘the poor’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2" descr=""/>
          <p:cNvPicPr/>
          <p:nvPr/>
        </p:nvPicPr>
        <p:blipFill>
          <a:blip r:embed="rId1"/>
          <a:stretch/>
        </p:blipFill>
        <p:spPr>
          <a:xfrm>
            <a:off x="457200" y="2098800"/>
            <a:ext cx="8229600" cy="3978000"/>
          </a:xfrm>
          <a:prstGeom prst="rect">
            <a:avLst/>
          </a:prstGeom>
          <a:ln w="0">
            <a:noFill/>
          </a:ln>
        </p:spPr>
      </p:pic>
      <p:sp>
        <p:nvSpPr>
          <p:cNvPr id="656" name="TextBox 2"/>
          <p:cNvSpPr/>
          <p:nvPr/>
        </p:nvSpPr>
        <p:spPr>
          <a:xfrm>
            <a:off x="3329640" y="6273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MacInnes et al., 20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overty-Attainment Gap: Early Years</a:t>
            </a:r>
            <a:br>
              <a:rPr sz="36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GUS [Bradshaw et al., 20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51732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gap starts in the early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ap between children from richest and poorest background at age 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eft-Right Arrow 2"/>
          <p:cNvSpPr/>
          <p:nvPr/>
        </p:nvSpPr>
        <p:spPr>
          <a:xfrm>
            <a:off x="1835280" y="3736800"/>
            <a:ext cx="4722840" cy="138780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3c8c9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6-13 months in problem sol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eft-Right Arrow 4"/>
          <p:cNvSpPr/>
          <p:nvPr/>
        </p:nvSpPr>
        <p:spPr>
          <a:xfrm>
            <a:off x="1403280" y="5246640"/>
            <a:ext cx="5977080" cy="1440000"/>
          </a:xfrm>
          <a:prstGeom prst="leftRightArrow">
            <a:avLst>
              <a:gd name="adj1" fmla="val 50000"/>
              <a:gd name="adj2" fmla="val 50001"/>
            </a:avLst>
          </a:prstGeom>
          <a:solidFill>
            <a:srgbClr val="3c8c9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1-18 months in expressive 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14360" y="34884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ntage of pupils performing well or very well by deprivation (Numeracy SSLN, 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Object 3" descr=""/>
          <p:cNvPicPr/>
          <p:nvPr/>
        </p:nvPicPr>
        <p:blipFill>
          <a:blip r:embed="rId1"/>
          <a:stretch/>
        </p:blipFill>
        <p:spPr>
          <a:xfrm>
            <a:off x="539640" y="1876320"/>
            <a:ext cx="8093160" cy="44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3" name="Object 4"/>
          <p:cNvGraphicFramePr/>
          <p:nvPr/>
        </p:nvGraphicFramePr>
        <p:xfrm>
          <a:off x="873000" y="1108080"/>
          <a:ext cx="7634520" cy="526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3000" y="1108080"/>
                    <a:ext cx="7634520" cy="52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gap matters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ss to HE and future dest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Content Placeholder 3" descr=""/>
          <p:cNvPicPr/>
          <p:nvPr/>
        </p:nvPicPr>
        <p:blipFill>
          <a:blip r:embed="rId1"/>
          <a:stretch/>
        </p:blipFill>
        <p:spPr>
          <a:xfrm>
            <a:off x="3240" y="1563840"/>
            <a:ext cx="9370800" cy="5373360"/>
          </a:xfrm>
          <a:prstGeom prst="rect">
            <a:avLst/>
          </a:prstGeom>
          <a:ln w="0">
            <a:noFill/>
          </a:ln>
        </p:spPr>
      </p:pic>
      <p:sp>
        <p:nvSpPr>
          <p:cNvPr id="667" name="TextBox 2"/>
          <p:cNvSpPr/>
          <p:nvPr/>
        </p:nvSpPr>
        <p:spPr>
          <a:xfrm>
            <a:off x="1208160" y="22017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6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4"/>
          <p:cNvSpPr/>
          <p:nvPr/>
        </p:nvSpPr>
        <p:spPr>
          <a:xfrm>
            <a:off x="1932840" y="35416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643120" y="48276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7"/>
          <p:cNvSpPr/>
          <p:nvPr/>
        </p:nvSpPr>
        <p:spPr>
          <a:xfrm>
            <a:off x="3173400" y="30798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Straight Connector 9"/>
          <p:cNvSpPr/>
          <p:nvPr/>
        </p:nvSpPr>
        <p:spPr>
          <a:xfrm>
            <a:off x="1679400" y="2878200"/>
            <a:ext cx="6008760" cy="0"/>
          </a:xfrm>
          <a:prstGeom prst="line">
            <a:avLst/>
          </a:prstGeom>
          <a:ln w="381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Straight Connector 12"/>
          <p:cNvSpPr/>
          <p:nvPr/>
        </p:nvSpPr>
        <p:spPr>
          <a:xfrm>
            <a:off x="1679400" y="3541680"/>
            <a:ext cx="60087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Box 14"/>
          <p:cNvSpPr/>
          <p:nvPr/>
        </p:nvSpPr>
        <p:spPr>
          <a:xfrm>
            <a:off x="7827480" y="33210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D=2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Box 17"/>
          <p:cNvSpPr/>
          <p:nvPr/>
        </p:nvSpPr>
        <p:spPr>
          <a:xfrm>
            <a:off x="7846560" y="266400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D=5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15"/>
          <p:cNvSpPr/>
          <p:nvPr/>
        </p:nvSpPr>
        <p:spPr>
          <a:xfrm>
            <a:off x="4213080" y="30798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4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Box 16"/>
          <p:cNvSpPr/>
          <p:nvPr/>
        </p:nvSpPr>
        <p:spPr>
          <a:xfrm>
            <a:off x="4859280" y="5070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18"/>
          <p:cNvSpPr/>
          <p:nvPr/>
        </p:nvSpPr>
        <p:spPr>
          <a:xfrm>
            <a:off x="5673600" y="4624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Box 19"/>
          <p:cNvSpPr/>
          <p:nvPr/>
        </p:nvSpPr>
        <p:spPr>
          <a:xfrm>
            <a:off x="6321600" y="4572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Box 22"/>
          <p:cNvSpPr/>
          <p:nvPr/>
        </p:nvSpPr>
        <p:spPr>
          <a:xfrm>
            <a:off x="6994440" y="4572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0:33:18Z</dcterms:created>
  <dc:creator>scott o'donnell</dc:creator>
  <dc:description/>
  <dc:language>en-US</dc:language>
  <cp:lastModifiedBy>Susan</cp:lastModifiedBy>
  <cp:lastPrinted>2015-05-14T11:04:27Z</cp:lastPrinted>
  <dcterms:modified xsi:type="dcterms:W3CDTF">2016-01-13T21:28:41Z</dcterms:modified>
  <cp:revision>206</cp:revision>
  <dc:subject/>
  <dc:title>PowerPoint Presentation</dc:title>
</cp:coreProperties>
</file>