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3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5C02-9489-439A-8374-3D1996AD2B3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ftr" idx="3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 type="sldNum" idx="4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830-F6C4-413F-8EE2-24149AFDA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A0A-A28B-41CC-B735-98EE7515F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E25-4B7F-4F08-AE64-96D76222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 per cent of university entrants coming from the most disadvantaged 20 per cent of soci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9B9-6229-4CFE-9DBB-331D6F6458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years not an inoculation and sustained support needed at all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3FC-0B02-4E39-829B-DE1FC9B857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outine attendance at school PTA meeting etc don’t appear to make a difference and stratified by SES anyway. i.e., parents from poorer background don’t get involved in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957-CDFF-4B78-A9D5-738857E6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538B-30E5-4A99-BA71-72748042F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bility children from most deprived families perform worse than average ability from least deprived by KS4 despite large differences at pri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ability children from least deprived catch average ability most deprived children by KS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1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, reading and science levels. Standardised and take percen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2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 and English fine grade levels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4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score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A63-DB87-4348-B825-B385D472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0E5A-AFAC-4F26-BE60-1790610E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ortant to keep these statistics in mind when thinking about who is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33E-FD1B-4B91-B8D2-4D05C074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rect relationship between deprivation, tariff and future destination such as access to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average 2012 tariff for the most deprived is good to take them to FE but significantly lower than the average entry to 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7% of leavers from the 2012-13 school leaver cohort from deprivation deciles 1 and 2 achieved an average tariff of 664 or above – the average score of those going on to HE study – who are these, rich leaving in poorer areas or children from poorer backgrounds doing well? – what can we learn from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us, if we want to widen access to HE, employment or volunteering, we will need to attend to the attainment of children from low income househ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made good strides but need to aim for perfection by asking other Key questions such as what are people doing when they get to these destinations – how positive are positive destin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C7E-CD54-4889-9329-81FB7227A0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09253-B80B-48EE-B31A-AD9F6619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D766EC-C92B-4AC8-BD0E-F7D2B067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F8048B-C7B4-44F9-985B-0435A69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48F98-D42F-4DB0-A970-FE0B6612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13BFE4-E523-4342-9C7F-83AFE62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F8E95-4198-4A14-8542-0873C7E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66C865-ACA6-4C07-8F68-DCBDDD9E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40C4F-BDDA-41CC-922F-54661EBB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6E663-FE3F-488C-AE10-5020E132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361058-D3DE-4A16-8F75-607565D9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6FB26-012C-498E-9108-320D529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4B4C84-1ED2-45FE-BA96-8195CF8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151037-E0D3-4C22-84EA-DE7B9AE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BBE5E-A93F-42C4-A241-0F54E81F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94D89-8F7E-4A62-A9A6-B3F650C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C8115-6A7B-4940-AD77-C3BC2AA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2E701E-AA6C-4A3D-BC59-6A6892C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8DFF63-04CC-4A9C-AB68-93026EDF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0D9F71-CA32-424D-B1DA-F36FC0EC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7EBE29-3C4F-4EE9-B4DC-FA4BD1FB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75566-F484-4378-A6D0-D2938E01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B34C3-DA56-4C1B-836A-486A36B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A0CEF-F77C-49F9-821E-A779FA6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F5D58-AD66-4745-B9B6-F8382A5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E2581-78F8-4A06-828E-1E3B56D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1A699-141B-4100-BC0B-5BA42454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45DF2-343C-4C1D-8BCD-68543167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ED744-C3F8-43FD-8F7E-1D40ED9C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E53BA-BF82-45AD-8194-15294F4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C0C8A-28A4-4AA4-ACD4-31D3432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DE1-6FAE-4290-92BD-303F6E30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43697-B37A-4065-922F-F48502F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EDEB5-3896-478E-A796-205A76C2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2AE9A-BC03-49D9-A8B4-ED566C8B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E8801-48BE-431D-8C19-382A8718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3FBB5-E008-4ED5-A660-F752F59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90A50-D512-4687-92AD-4A9F35D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D3E50-3F5A-4721-A771-2395190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92830-941B-48D6-BB42-C87805B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CCE7D-1D7B-45C0-88C2-C22F55A9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83103-F944-465D-A164-797C21B5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90E-875E-426E-A763-4B3F6C7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C2FC1-D5C1-4601-A463-829929A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F56F9-8F15-4617-83A4-505523C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A786F-5ABA-47A5-93AF-FE7D2BF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2A65E-8D18-419F-B94C-D22BB5B9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12513-4017-4C3F-A3A9-1EA07A56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747F5-0C7C-4093-8921-406FEE40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BDDD02-6B81-469A-8F99-2EE0456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662306-1F77-4591-A335-52B6E20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0D4702-9DD0-461C-AD49-E899348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D9FD96-FD8C-4846-964F-062343D2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E46-857E-4C6D-B93A-CB13FC4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9089F8-556D-4115-9C63-60E0A09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195B83-25C3-4482-BB0C-4A840C8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2643F4-82A9-43F3-AE9B-F990679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0F1DA5-E2CE-40CC-9A7F-612908C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12B1A6-73A9-49B2-99E0-9788D7A4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4BBAF5-33B9-4851-912C-8583E8AC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54630-306F-4C23-AECE-285769DF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556C2-2342-4D0F-BCF3-92BE5232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05AA3-BD65-428A-A5FF-A7DB23C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75C50-D5DA-46E2-BF0C-8BD14559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2B9-65EB-4910-95BB-53E245C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C4FDC-014E-481C-A110-1400874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1EB5B-735B-400A-8BAF-ECD1479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D1115-E087-49BB-9E84-EF77698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CA26C-855E-44FB-867B-05C517A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73819-70E7-4988-B798-F73E6CE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1E84D-BF4B-4B75-AE7F-E51D836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6E6D1-28EA-4C7E-8F23-C38937F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50358-4EB5-452C-95FB-D644DF2C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05CF9-8B08-41ED-9729-6F20A532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9A4249-C165-4F92-9059-329C3974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762-77C1-4095-83B5-AF3C379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A22517-3646-497F-B5C7-3064674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232338-0BAB-4E67-B9D1-190FA2F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D553E7-A0D2-497A-A1F8-F5F9AEC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9C34F3-9D05-41D1-9657-7E5AB1F7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8EFE78-6DD7-462F-9C8F-87CB157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037A76-1483-463B-A0ED-74665B0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B8C09C-647F-423D-8249-FD2E78C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A3E21E-7848-4240-A431-B5691CA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CB2944-E580-4C8A-A8B4-89134EDF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793ED7-094D-486D-B2E6-766AC44B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091-50E2-4B7A-9D19-4BE158BE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F2AB9C-A081-4F76-A792-124B9F40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53C-99C8-4D9A-93AE-D2E175D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DC3-9A26-49FC-B546-5034AC6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432-F6A5-4BE4-911D-3C6D027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ACA-23A7-4F90-B544-32ABE348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23C-5E2F-4E41-A8A8-53A93962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91F-B343-4245-8F41-B9D89010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C12F7-03E0-4D57-BAE2-217C8F0B5C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E6446-FE7D-4C06-A94F-A3FE9D8F7B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C3A22-41CF-4226-8345-A186E5762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6FE8-EEF0-409C-A13A-3B89CE0773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CAC0-321D-46A6-9741-58B074B543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8B5F0-173B-4340-BAF4-4CEB808DB7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2EAB5-CBD4-4D0D-BAC8-09DC1F170C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1B3F-2639-4EB9-9C60-A35B0F54C9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DD6C-B06C-4E1F-B84B-13E2F35143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51DB-8AC0-491A-B3D5-311A9F08F6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256E0-50C6-494C-ACDB-B59325F025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765B-D495-4C0E-B711-A21B4073DB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4CD31-DC72-4AFB-B91A-ED368691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8EE1B-1C03-4BFB-BFE4-73EE36A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4D3E2-BEE5-4B6A-896F-5660A05E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6C5E5-4A56-4D44-AF47-516EF53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797C2-899D-436D-8CD6-B9E9F81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D84FF-0551-4FAF-907C-6E0D1E5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10C8F-66F4-44E2-BCDC-04DE399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7AD94-2EEB-42FE-A241-1845905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DA575-2094-4A22-BED4-C72B20E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7AF3C-4208-47C0-9849-EB4A6A0D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2CD12-D944-4793-A2A6-92EC2877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D5662-73BC-40A8-9D5F-D699A2BA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9888E-6A26-42B9-8F2E-590F3C9E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6A3E5-9FB6-4BEB-8126-78D20E3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D361F-D978-4F4C-9FD9-7236E02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5056F-FF80-462B-A9D4-4D60BC36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083FB-D086-4A90-AE98-15E39C3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5C96D-C5CE-49B3-BAF4-F043956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8CDC0-6F60-4570-9362-D75B28C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3F95F-5A73-4402-A86F-9556ABF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256EA-721D-4CDA-A8E1-7F258B29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BE20E-5C63-43D8-B4D4-3CFB10B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3F940-5373-4E0B-BEF1-6AB707BB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3E8DB-69E5-4A96-AF55-6FD082B4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42E3C-47FC-4B64-B1F2-45EC28F7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2838C-10C3-4D20-BE25-E6533C0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B7A45-0C74-4A41-92A1-4B2382F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277F6-8591-47A8-9669-FC4B8B9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1BD224-6D8D-4F1B-BF2C-4FCD76B5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60F22-A250-4112-BCDC-E763E92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EC905-4F36-4098-8620-3CB1249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AA8753-80B1-4BFB-A891-3BE8551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93D8C-126A-4692-8EEF-B049305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BF947-5FD8-4065-AF24-0E5A45B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5AE16-F1D7-426B-AE7C-EFC2039F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80948-12D3-4D03-B412-1F549D5F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7087FC-DE5F-4968-9786-85A4593E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21079-E4FD-425E-BE1F-F8DA83F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2D23B-17F7-49D9-AB24-EE8C74C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969229-F924-4E26-B7A8-BA1AB8F2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D6557-4FCA-4DEB-8359-843BE98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2A7AAB-24EB-4838-B92B-5D3F542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70D4F-591E-41BB-8DCA-3A90CEB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A3B45-8D42-46C5-82A2-DC38D2E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02D86-C5DE-4E14-9084-C8ED86F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63479-EBB4-4A30-B1F6-0A590FC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EDB4F-38AB-47C5-9A0A-FD3B9F2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7F9C1D-6B8F-401B-AC59-8A1341B8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F1568-79EC-47DB-AFA8-79AF8566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454022-A03E-4808-AFD3-2C9A6B7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8012C-1B62-4000-A426-DCBA3559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ED6-BE2E-4A1A-A5C4-471783E1089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A0EF-547B-46DE-A361-AD3B45F2557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C3DE-66AE-4331-9BF4-B3C7BA5F96C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BE2-DAF2-4F9E-AE3A-58909104876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596-380D-4CB7-9217-6D3141E48B4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2DB-920C-43D3-923E-7BB3B91C009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F64-249B-404F-8E99-5E5CE448FB2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426360"/>
            <a:ext cx="21337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E108-0F40-4FF1-A55E-A16795FB7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B1D-7FEC-4CD7-AA6D-AAA59261E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32E-BC7C-4E7F-A074-F3CBA451110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4FD-F1FD-4019-AB11-BA5179C94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D4A8-37F6-4A61-B504-30809C84B82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DD0-3EE4-4DBC-AA2A-1C49044F15F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dward.sosu@strath.ac.uk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uttontrust.com/public/documents/readinggap.pdf" TargetMode="External"/><Relationship Id="rId3" Type="http://schemas.openxmlformats.org/officeDocument/2006/relationships/hyperlink" Target="http://browse.oecdbookshop.org/oecd/pdfs/product/9107211e.pdf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7360" y="2692080"/>
            <a:ext cx="81691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ing the Poverty - Attainment Gap in Scottish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57280" y="4765320"/>
            <a:ext cx="81676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r Edward S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5421240" y="2330280"/>
            <a:ext cx="32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4216320" y="505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329920" y="6423120"/>
            <a:ext cx="39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dening Access to Higher Education Conference  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22000" y="1571400"/>
            <a:ext cx="8096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 level data based on SS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p persists and widen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rrowing of gap in P4 ‘writing’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level data suggest narrowing of gap particularly with reference to S4 tariff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inment is a key determinant of entry to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actors that might account for this gap in attai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3960" y="1204560"/>
            <a:ext cx="8096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riched vs disadvantaged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y stressors associated with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xclusion and 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dden cost of education – school trip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ing and learning practices – abilit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531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th’ of low parental educational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2093400"/>
            <a:ext cx="403848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iration guided by ‘rational decisi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 to have high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is how best to support them to turn aspirations to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Content Placeholder 6" descr=""/>
          <p:cNvPicPr/>
          <p:nvPr/>
        </p:nvPicPr>
        <p:blipFill>
          <a:blip r:embed="rId1"/>
          <a:stretch/>
        </p:blipFill>
        <p:spPr>
          <a:xfrm>
            <a:off x="3894120" y="2452680"/>
            <a:ext cx="5249880" cy="39909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2"/>
          <p:cNvSpPr/>
          <p:nvPr/>
        </p:nvSpPr>
        <p:spPr>
          <a:xfrm>
            <a:off x="7527600" y="63594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osu, 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e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Policy Instr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6040" y="2144880"/>
            <a:ext cx="831852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ducation (Scotland) Bill and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FC’s Widening Access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ning Access Commission – ‘Vision 20/20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Years Collaborative (but not an inocul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tervention at every tier of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782640"/>
            <a:ext cx="8096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arly Years:  What work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1269720"/>
            <a:ext cx="8335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EY provis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high 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ve learning experiences; clear learning objectives; explicit focus on language, early-reading &amp; number concepts, non-verbal reaso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l qualifie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from mixed socio-economic backg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PE project foun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d child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ttended quality preschoo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formed better 5 year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gins et al., 2013; Sammons et al., 2007; Sylva et al.,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School-wide: Parental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parents to work with their children to improve their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POKES projec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parents to use Pause, Prompt &amp; Praise 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d with intervention to reduce behaviou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ed increased attainment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13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cott et al.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160" y="882720"/>
            <a:ext cx="809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al Involvement: What probably does not work alon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5640" y="2317680"/>
            <a:ext cx="80964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 and parent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mework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al volunteering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Effective Pedagogies</a:t>
            </a: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160" y="1846080"/>
            <a:ext cx="809604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r Tu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cognitive and self-reg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0760" y="8474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 and Education in 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tle of the variation in student achievement in Scotland is associated with the ways in which schools differ...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Who you are in Scotland is far more important than what school you att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so far as achie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fferences on international tests are concerned.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Socio-economic status is the most important difference between individu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(OECD, 2007, p.1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cessary but not sufficient condition for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ous models exist –Title I (USA), London &amp; City Challenge, Pupil Premium (England), ‘Scottish Model?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  far, only London Challenge shown to make some impact on attainment and narrowed the gap (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some doubt on level of effect -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reaves et al., 2014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96880" y="1987560"/>
            <a:ext cx="80964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ear focus on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mphasis on use of data to monitor impact of interv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ing strong collaboration between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lement of parent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chool interventions guided by strong evidence of wha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does no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3160" y="1987560"/>
            <a:ext cx="8096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duced budget and support in other ar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parate provisions that result in stigmat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oad goals without specific guidance to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rt term external support for tu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ventions that rely on anecdot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onsistent monitoring of impact on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. Knowledg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ally documenting evidence within a Scottish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ce for ‘plausible’ experimentation as part of funding – removing fear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ing process and outcome data to inform future interven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What will help? Smarte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3520" y="1987560"/>
            <a:ext cx="8184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, Scottish, approach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&amp; attainment data, engagement, data &amp; demographic data - to directly feed curriculum and teach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understandings, uses, organisational systems and interrog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takes testing i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Chart 144" descr=""/>
          <p:cNvPicPr/>
          <p:nvPr/>
        </p:nvPicPr>
        <p:blipFill>
          <a:blip r:embed="rId1"/>
          <a:stretch/>
        </p:blipFill>
        <p:spPr>
          <a:xfrm>
            <a:off x="1415880" y="1589040"/>
            <a:ext cx="6564600" cy="4543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16812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ata can help us see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le students are falling behind whilst ric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 abil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ain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1343160" y="6081840"/>
            <a:ext cx="50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rtesy of Prof Anna Vignoles (University of Cambrid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680" y="3535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elements for succes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-bas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basket of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- monitoring of impact on student at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ng intervention to specific con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eyond education – Tackling inequality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ing Inspirational and believing in the stud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3160" y="795240"/>
            <a:ext cx="8096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 Edward S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ward.sosu@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to: Prof Sue Ellis, Dr Jim McCormick (J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Report freely available on JRF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ing the attainment gap in Scottish education (Sosu &amp; Ellis,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0" y="14842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Bradshaw, P. (2011) Growing Up in Scotland (2011) Changes in child cognitive ability in the pre-school years Edinburgh; Scottish Governmen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Gorard, S., See, B. H. and Davies. P. (2012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impact of attitudes and aspirations on educational attainment and participation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York: The Joseph Rowntree Foundatio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Higgins, S. et al., (2013). The Sutton Trust-Education Endowment Foundation Teaching and Learning Toolkit. London. EEF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Jerrim, J. (2013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Reading Gap: The socio-economic gap in children’s reading skills: A cross-national comparison using PISA 2009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suttontrust.com/public/documents/readinggap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5th July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ECD (2007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Quality and Equity of Schooling in Scotland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browse.oecdbookshop.org/oecd/pdfs/product/9107211e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2th March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harples, J. et al., (2011).Effective classroom strategies for closing the gap in educational achievement for children and young people living in poverty, including white working-class boys.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chools and Communities Research Review 4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C4EO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osu, E. and Ellis, S. (2014); Closing the attainment gap in Scottish education; York: Joseph Rowntree Foundation.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osu, Edward (2014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Predicting maternal aspirations for their children's education : the role of parental and child characteristics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International Journal of Educational Research, 67. pp. 67-79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Topping, K. J., Miller, D., Murray, P., Henderson, S., Fortuna, C., &amp; Conlin, N. (2011). Outcomes in a randomised controlled trial of mathematics tutoring. Educational Research, 53(1), 51-63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Wilkinson, R. and Pickett, K. (2009) 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Spirit Level: Why Equality is Better for Everyone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, Penguin Book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FB58-FB0E-47FE-8BCE-F254F255411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77480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6% of children in poverty were in working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011/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 from 43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6/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1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cial Mobility and Child Poverty Commissio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2013 around 17% of households were ‘workles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this 8% never worked – constitutes  1.5% of all households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8229600" cy="3762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2"/>
          <p:cNvSpPr/>
          <p:nvPr/>
        </p:nvSpPr>
        <p:spPr>
          <a:xfrm>
            <a:off x="2754360" y="62118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457200" y="2098800"/>
            <a:ext cx="8229600" cy="39780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"/>
          <p:cNvSpPr/>
          <p:nvPr/>
        </p:nvSpPr>
        <p:spPr>
          <a:xfrm>
            <a:off x="3329640" y="62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verty-Attainment Gap: Early Years</a:t>
            </a:r>
            <a:br>
              <a:rPr sz="3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US [Bradshaw et al.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1732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gap starts in the early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ap between children from richest and poorest background at age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eft-Right Arrow 2"/>
          <p:cNvSpPr/>
          <p:nvPr/>
        </p:nvSpPr>
        <p:spPr>
          <a:xfrm>
            <a:off x="1835280" y="3736800"/>
            <a:ext cx="4722840" cy="138780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-13 months in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eft-Right Arrow 4"/>
          <p:cNvSpPr/>
          <p:nvPr/>
        </p:nvSpPr>
        <p:spPr>
          <a:xfrm>
            <a:off x="1403280" y="5246640"/>
            <a:ext cx="5977080" cy="14400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-18 months in express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4360" y="348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pupils performing well or very well by deprivation (Numeracy SSL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3" descr=""/>
          <p:cNvPicPr/>
          <p:nvPr/>
        </p:nvPicPr>
        <p:blipFill>
          <a:blip r:embed="rId1"/>
          <a:stretch/>
        </p:blipFill>
        <p:spPr>
          <a:xfrm>
            <a:off x="539640" y="1876320"/>
            <a:ext cx="80931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4"/>
          <p:cNvGraphicFramePr/>
          <p:nvPr/>
        </p:nvGraphicFramePr>
        <p:xfrm>
          <a:off x="873000" y="1108080"/>
          <a:ext cx="763452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108080"/>
                    <a:ext cx="763452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gap matter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o HE and futur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240" y="1563840"/>
            <a:ext cx="9370800" cy="53733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2"/>
          <p:cNvSpPr/>
          <p:nvPr/>
        </p:nvSpPr>
        <p:spPr>
          <a:xfrm>
            <a:off x="1208160" y="220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1932840" y="3541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643120" y="482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317340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traight Connector 9"/>
          <p:cNvSpPr/>
          <p:nvPr/>
        </p:nvSpPr>
        <p:spPr>
          <a:xfrm>
            <a:off x="1679400" y="2878200"/>
            <a:ext cx="6008760" cy="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1679400" y="3541680"/>
            <a:ext cx="6008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7827480" y="332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D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17"/>
          <p:cNvSpPr/>
          <p:nvPr/>
        </p:nvSpPr>
        <p:spPr>
          <a:xfrm>
            <a:off x="7846560" y="2664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=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421308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4859280" y="507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18"/>
          <p:cNvSpPr/>
          <p:nvPr/>
        </p:nvSpPr>
        <p:spPr>
          <a:xfrm>
            <a:off x="5673600" y="46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19"/>
          <p:cNvSpPr/>
          <p:nvPr/>
        </p:nvSpPr>
        <p:spPr>
          <a:xfrm>
            <a:off x="632160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699444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usan</cp:lastModifiedBy>
  <cp:lastPrinted>2015-05-14T11:04:27Z</cp:lastPrinted>
  <dcterms:modified xsi:type="dcterms:W3CDTF">2016-01-13T21:28:41Z</dcterms:modified>
  <cp:revision>206</cp:revision>
  <dc:subject/>
  <dc:title>PowerPoint Presentation</dc:title>
</cp:coreProperties>
</file>